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642-1A4B-4221-B0E8-728E39C8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CAB-FD2D-48F7-946F-52D9703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796-2BB2-48EB-9702-CFB32549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53A-154A-43A4-B122-6C10F39B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64B-F90E-4EDA-8FCF-91D1EB94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72F-C137-480B-BACF-4A51F60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BBAD-24FE-4AA6-92C3-9A267623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284-EF16-40C1-B175-09E0462C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489-91BD-4D81-B14D-673A682F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1E0-2FD8-405A-80B2-6D8CA24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F4F-5DB2-4265-A995-62AE172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9A2-AEA7-43DF-85BC-6D0FED0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222D-0F30-47C0-A54A-75D779C60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6.png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4.gif"/><Relationship Id="rId18" Type="http://schemas.openxmlformats.org/officeDocument/2006/relationships/image" Target="../media/image14.gif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1511280" cy="939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1179360" cy="79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340000" y="5157720"/>
            <a:ext cx="2278080" cy="118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1844640"/>
            <a:ext cx="143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51640" y="2060640"/>
            <a:ext cx="3025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422100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t! Hot!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404640"/>
            <a:ext cx="8785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66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Spice up your sentenc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66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fun stuff Dancing Chili Pepper chorus line"/>
          <p:cNvPicPr/>
          <p:nvPr/>
        </p:nvPicPr>
        <p:blipFill>
          <a:blip r:embed="rId1"/>
          <a:stretch/>
        </p:blipFill>
        <p:spPr>
          <a:xfrm rot="5400000">
            <a:off x="6423840" y="333612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un stuff Dancing Chili Pepper chorus line"/>
          <p:cNvPicPr/>
          <p:nvPr/>
        </p:nvPicPr>
        <p:blipFill>
          <a:blip r:embed="rId2"/>
          <a:stretch/>
        </p:blipFill>
        <p:spPr>
          <a:xfrm rot="16200000">
            <a:off x="-1923120" y="3407040"/>
            <a:ext cx="4643640" cy="797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fun stuff Dancing Chili Pepper chorus line"/>
          <p:cNvPicPr/>
          <p:nvPr/>
        </p:nvPicPr>
        <p:blipFill>
          <a:blip r:embed="rId3"/>
          <a:stretch/>
        </p:blipFill>
        <p:spPr>
          <a:xfrm>
            <a:off x="0" y="6060960"/>
            <a:ext cx="4643280" cy="7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un stuff Dancing Chili Pepper chorus line"/>
          <p:cNvPicPr/>
          <p:nvPr/>
        </p:nvPicPr>
        <p:blipFill>
          <a:blip r:embed="rId4"/>
          <a:stretch/>
        </p:blipFill>
        <p:spPr>
          <a:xfrm>
            <a:off x="4572000" y="6060960"/>
            <a:ext cx="4572000" cy="79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un stuff Dancing Chili Pepper chorus line"/>
          <p:cNvPicPr/>
          <p:nvPr/>
        </p:nvPicPr>
        <p:blipFill>
          <a:blip r:embed="rId5"/>
          <a:stretch/>
        </p:blipFill>
        <p:spPr>
          <a:xfrm>
            <a:off x="0" y="0"/>
            <a:ext cx="4462560" cy="7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un stuff Dancing Chili Pepper chorus line"/>
          <p:cNvPicPr/>
          <p:nvPr/>
        </p:nvPicPr>
        <p:blipFill>
          <a:blip r:embed="rId6"/>
          <a:stretch/>
        </p:blipFill>
        <p:spPr>
          <a:xfrm>
            <a:off x="4427640" y="0"/>
            <a:ext cx="4716360" cy="79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un stuff Dancing Chili Pepper chorus line"/>
          <p:cNvPicPr/>
          <p:nvPr/>
        </p:nvPicPr>
        <p:blipFill>
          <a:blip r:embed="rId7"/>
          <a:stretch/>
        </p:blipFill>
        <p:spPr>
          <a:xfrm rot="16200000">
            <a:off x="-1923120" y="268776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un stuff Dancing Chili Pepper chorus line"/>
          <p:cNvPicPr/>
          <p:nvPr/>
        </p:nvPicPr>
        <p:blipFill>
          <a:blip r:embed="rId8"/>
          <a:stretch/>
        </p:blipFill>
        <p:spPr>
          <a:xfrm rot="5400000">
            <a:off x="6423480" y="2688120"/>
            <a:ext cx="4643640" cy="79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7327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82692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0767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291636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82692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6804000" y="515772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3132000" y="836640"/>
            <a:ext cx="1514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5292720" y="836640"/>
            <a:ext cx="151452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411280" y="2205000"/>
            <a:ext cx="390384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-61272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2268360" y="5373720"/>
            <a:ext cx="98460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4356000" y="5373720"/>
            <a:ext cx="984240" cy="69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0"/>
          <a:stretch/>
        </p:blipFill>
        <p:spPr>
          <a:xfrm>
            <a:off x="6372360" y="5397480"/>
            <a:ext cx="984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45"/>
                            </p:stCondLst>
                            <p:childTnLst>
                              <p:par>
                                <p:cTn id="12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745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72" name="" descr="dancing chaos fun stuff"/>
          <p:cNvPicPr/>
          <p:nvPr/>
        </p:nvPicPr>
        <p:blipFill>
          <a:blip r:embed="rId1"/>
          <a:stretch/>
        </p:blipFill>
        <p:spPr>
          <a:xfrm rot="5400000">
            <a:off x="4426560" y="385992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dancing chaos fun stuff"/>
          <p:cNvPicPr/>
          <p:nvPr/>
        </p:nvPicPr>
        <p:blipFill>
          <a:blip r:embed="rId2"/>
          <a:stretch/>
        </p:blipFill>
        <p:spPr>
          <a:xfrm rot="16200000">
            <a:off x="-3670920" y="342756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dancing chaos fun stuff"/>
          <p:cNvPicPr/>
          <p:nvPr/>
        </p:nvPicPr>
        <p:blipFill>
          <a:blip r:embed="rId3"/>
          <a:stretch/>
        </p:blipFill>
        <p:spPr>
          <a:xfrm>
            <a:off x="-11890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dancing chaos fun stuff"/>
          <p:cNvPicPr/>
          <p:nvPr/>
        </p:nvPicPr>
        <p:blipFill>
          <a:blip r:embed="rId4"/>
          <a:stretch/>
        </p:blipFill>
        <p:spPr>
          <a:xfrm>
            <a:off x="-39672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dancing chaos fun stuff"/>
          <p:cNvPicPr/>
          <p:nvPr/>
        </p:nvPicPr>
        <p:blipFill>
          <a:blip r:embed="rId5"/>
          <a:stretch/>
        </p:blipFill>
        <p:spPr>
          <a:xfrm>
            <a:off x="1187280" y="581184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ancing chaos fun stuff"/>
          <p:cNvPicPr/>
          <p:nvPr/>
        </p:nvPicPr>
        <p:blipFill>
          <a:blip r:embed="rId6"/>
          <a:stretch/>
        </p:blipFill>
        <p:spPr>
          <a:xfrm>
            <a:off x="1187280" y="0"/>
            <a:ext cx="8388360" cy="1046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64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457200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70836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284328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050920" y="479736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6227640" y="4797360"/>
            <a:ext cx="762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79640" y="1844640"/>
            <a:ext cx="52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08360" y="112536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6516720" y="1052640"/>
            <a:ext cx="151452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 flipH="1">
            <a:off x="1042560" y="1052640"/>
            <a:ext cx="151308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-54144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961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614"/>
                            </p:stCondLst>
                            <p:childTnLst>
                              <p:par>
                                <p:cTn id="34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614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2" name="" descr="more hula animation fun stuff"/>
          <p:cNvPicPr/>
          <p:nvPr/>
        </p:nvPicPr>
        <p:blipFill>
          <a:blip r:embed="rId1"/>
          <a:stretch/>
        </p:blipFill>
        <p:spPr>
          <a:xfrm>
            <a:off x="-25236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more hula animation fun stuff"/>
          <p:cNvPicPr/>
          <p:nvPr/>
        </p:nvPicPr>
        <p:blipFill>
          <a:blip r:embed="rId2"/>
          <a:stretch/>
        </p:blipFill>
        <p:spPr>
          <a:xfrm>
            <a:off x="4643280" y="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more hula animation fun stuff"/>
          <p:cNvPicPr/>
          <p:nvPr/>
        </p:nvPicPr>
        <p:blipFill>
          <a:blip r:embed="rId3"/>
          <a:stretch/>
        </p:blipFill>
        <p:spPr>
          <a:xfrm>
            <a:off x="450072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ore hula animation fun stuff"/>
          <p:cNvPicPr/>
          <p:nvPr/>
        </p:nvPicPr>
        <p:blipFill>
          <a:blip r:embed="rId4"/>
          <a:stretch/>
        </p:blipFill>
        <p:spPr>
          <a:xfrm>
            <a:off x="-252360" y="6026040"/>
            <a:ext cx="4932360" cy="83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more hula animation fun stuff"/>
          <p:cNvPicPr/>
          <p:nvPr/>
        </p:nvPicPr>
        <p:blipFill>
          <a:blip r:embed="rId5"/>
          <a:stretch/>
        </p:blipFill>
        <p:spPr>
          <a:xfrm rot="5400000">
            <a:off x="6099480" y="2977200"/>
            <a:ext cx="5256360" cy="83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more hula animation fun stuff"/>
          <p:cNvPicPr/>
          <p:nvPr/>
        </p:nvPicPr>
        <p:blipFill>
          <a:blip r:embed="rId6"/>
          <a:stretch/>
        </p:blipFill>
        <p:spPr>
          <a:xfrm rot="16200000">
            <a:off x="-2247840" y="3012840"/>
            <a:ext cx="5328000" cy="831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03280" y="1844640"/>
            <a:ext cx="61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Hot Hot Ho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82692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9272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35600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334800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248436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619280" y="47973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227640" y="5084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164360" y="4869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900000" y="907920"/>
            <a:ext cx="905040" cy="153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732720" y="907920"/>
            <a:ext cx="904680" cy="1533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63640" y="907920"/>
            <a:ext cx="787320" cy="15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7380360" y="907920"/>
            <a:ext cx="7873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851280" y="981000"/>
            <a:ext cx="13827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9"/>
          <a:stretch/>
        </p:blipFill>
        <p:spPr>
          <a:xfrm>
            <a:off x="-61272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919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191"/>
                            </p:stCondLst>
                            <p:childTnLst>
                              <p:par>
                                <p:cTn id="56" nodeType="afterEffect" fill="hold" presetClass="exit" presetID="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191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7:30:55Z</dcterms:created>
  <dc:creator>Sarah PC</dc:creator>
  <dc:description/>
  <dc:language>en-US</dc:language>
  <cp:lastModifiedBy>Sarah PC</cp:lastModifiedBy>
  <dcterms:modified xsi:type="dcterms:W3CDTF">2007-10-22T19:48:20Z</dcterms:modified>
  <cp:revision>3</cp:revision>
  <dc:subject/>
  <dc:title>Slide 1</dc:title>
</cp:coreProperties>
</file>