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83B-A2FE-47ED-BBE7-1316624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7D3-3573-47C4-A823-66414DE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9C6-497C-4372-9B78-5B1AD4B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852-F961-4DD3-8FD2-E87743E1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6812-FB18-4848-912C-EF607B13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325-6B82-4E48-98B5-509FAF4D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E0A-55AF-4CB7-9E62-60B4EF3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5E63-8C27-4D51-9A59-7DABB52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CE9E-9C16-4B78-87FE-5221873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FA5F-0EC8-4771-92F0-BCD929E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4EF4-27EE-44CD-9CE7-56E7776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85C-E75A-42AD-A6EF-D948455E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C9CA-FA6C-483E-9E2D-341157D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616A-B21E-4EDA-BF16-ED21614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63AF-CED9-4EA2-AB31-B63D362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59F5-E5F3-441E-9F55-AE8F642D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A66-B898-4569-839D-FE5A79CE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2E2-DD6F-4B38-9710-3ED64C32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327-6DC2-4D0D-9EEF-4CA3BA1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4CA-7D2C-4686-810F-B5154DA3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4B3-4D21-47ED-9291-3DD34D08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962-E653-4A3F-AE74-73CE2775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D42-D730-483D-A530-8022D028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10A-0259-40EB-9BE8-6351A08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BC9-CCF9-49B4-BA7A-62C4D2A05E4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AC3-0280-4646-B393-9F7ED94D990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8f8f8"/>
                </a:solidFill>
                <a:latin typeface="Comic Sans MS"/>
              </a:rPr>
              <a:t>Proofreading</a:t>
            </a:r>
            <a:endParaRPr b="0" lang="en-US" sz="8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Resource 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Comic Sans MS"/>
              </a:rPr>
              <a:t>Grades 3-5</a:t>
            </a:r>
            <a:endParaRPr b="0" lang="en-US" sz="4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apital Lett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pital letters are used at the beginning of each sentence and for proper noun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62120" y="38858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 you understand me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has a new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nten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 sister’s name is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usann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 live i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fferson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ty,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nness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st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0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Which part of the sentence has a capitalization error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 night | I saw Mrs. | jones at the | school talent show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Last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igh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saw Mr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jones at the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chool talent show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3" name="chalkboard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6067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Ending Punctu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period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statement or command.  A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question mark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 question.  An </a:t>
            </a:r>
            <a:r>
              <a:rPr b="0" lang="en-US" sz="2800" spc="-1" strike="noStrike">
                <a:solidFill>
                  <a:srgbClr val="6699ff"/>
                </a:solidFill>
                <a:latin typeface="Comic Sans MS"/>
              </a:rPr>
              <a:t>exclamation poi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is used at the end of an exclamatory sentence.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2120" y="42667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Please 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Did you hear me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I said, “Sit down</a:t>
            </a:r>
            <a:r>
              <a:rPr b="0" lang="en-US" sz="4000" spc="-1" strike="noStrike">
                <a:solidFill>
                  <a:srgbClr val="ff0066"/>
                </a:solidFill>
                <a:latin typeface="Comic Sans MS"/>
              </a:rPr>
              <a:t>!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49" name="runners1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94328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hoose the answer that shows the best punctuation for the underlined par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girls raided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kitchen the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were hungry after the long training run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kitchen. 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,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kitchen; They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2" name="runners1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62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Proofreading Results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en you have checked for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topic sentence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mplete sentences,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capitalization, and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rrect punctuation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re should be a well written paragraph!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55" name="happyexclaim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36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What is proofreading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Comic Sans MS"/>
              </a:rPr>
              <a:t>Proofreading 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is what we call it when we read and correct something that has been written.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3" name="writing" descr=""/>
          <p:cNvPicPr/>
          <p:nvPr/>
        </p:nvPicPr>
        <p:blipFill>
          <a:blip r:embed="rId1"/>
          <a:stretch/>
        </p:blipFill>
        <p:spPr>
          <a:xfrm>
            <a:off x="6095880" y="2666880"/>
            <a:ext cx="22399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Things we look f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written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that make sens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we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apital letter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n the right plac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e check to see if our sentences hav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rrect punctuation mark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t the end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of a paragraph states the main idea and attracts the reader's interest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914040" y="41148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like zebra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Don’t eat pizza!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y name is Brian Jo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19" name="boy5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743200" cy="14191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2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Choose the topic sentence that best fits the paragraph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________________________  I am nine years old and am in the third grade.  I like chocolate ice cream and swimming in the lake.  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. I am a soccer player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B. My name is Matthew Mage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. How old are you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25" name="boy1x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800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Complete sentenc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complete sentence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is a group of words that expresses a complete thought (and has a subject and a verb)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r example…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480" y="4419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 have two new friend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at boy needs a new pair of sho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is your favorite thing to eat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19960" indent="-22392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1" name="cmptr1x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3623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A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hile he worked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On the computer Eric spends his time he likes to play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.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9933ff"/>
                </a:solidFill>
                <a:latin typeface="Comic Sans MS"/>
              </a:rPr>
              <a:t>Eric spends his spare time playing on the computer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6699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Comic Sans MS"/>
              </a:rPr>
              <a:t>D.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Comic Sans MS"/>
              </a:rPr>
              <a:t>As</a:t>
            </a: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 Eric spent his vacation.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34" name="cmptr1x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5146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29:16Z</dcterms:created>
  <dc:creator>Jefferson County Schools Jeff</dc:creator>
  <dc:description/>
  <dc:language>en-US</dc:language>
  <cp:lastModifiedBy>Jefferson County Schools Jeff</cp:lastModifiedBy>
  <dcterms:modified xsi:type="dcterms:W3CDTF">2002-02-26T19:17:30Z</dcterms:modified>
  <cp:revision>6</cp:revision>
  <dc:subject/>
  <dc:title>What Possessed You?</dc:title>
</cp:coreProperties>
</file>