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17B-CE9C-47C4-B91D-3EB37B20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03C-625E-475F-A457-4B36E63D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59D-72CE-4C71-B1C7-6DBD60A7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16D-E1A7-44FF-A624-A1A42B73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B49B-5D82-4043-9AA2-2D1C539E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8C08-5CBF-4FE0-B2C1-327DAB8E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D060-1690-4EB6-A9E4-9610E0D6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4253-CAB2-4414-B775-BC0F720B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45B2-0744-41F7-94C4-10A521C1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5F45-57D3-40D2-802E-C31025B8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B208-FD4E-4450-9709-7E9FF435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D23-AC6D-419B-8141-E14702D4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0530-BD3B-4F1B-989C-A4D3BACC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F57D-4F2D-433F-BEEC-38AFF0CD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56B7-AC02-423C-BCFB-745E3ABB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EA25-5538-413A-8941-16090DEB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76D7-5B50-402D-9D1C-A7AC274C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83E-E099-4385-A7EB-260E8335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E86-D405-44C1-ADE2-D97E8310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C75-B9A4-41D0-86E2-7D0BA468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14A-62F1-4E47-9145-05460C79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68C-A94D-46C1-A9E9-B3CB43AA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967-2598-4FDF-A63C-1D46EDCD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33F-0635-4ED4-B82C-529F1A15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C834-8158-4AAB-84A8-FF8ABD4376F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2CDB-9033-40B1-B76B-28A42A6E06E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8f8f8"/>
                </a:solidFill>
                <a:latin typeface="Comic Sans MS"/>
              </a:rPr>
              <a:t>Proofreading</a:t>
            </a:r>
            <a:endParaRPr b="0" lang="en-US" sz="8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Comic Sans MS"/>
              </a:rPr>
              <a:t>Resource </a:t>
            </a:r>
            <a:endParaRPr b="0" lang="en-US" sz="4800" spc="-1" strike="noStrike">
              <a:solidFill>
                <a:srgbClr val="f8f8f8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Comic Sans MS"/>
              </a:rPr>
              <a:t>Grades 3-5</a:t>
            </a:r>
            <a:endParaRPr b="0" lang="en-US" sz="48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Capital Lett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pital letters are used at the beginning of each sentence and for proper noun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62120" y="38858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o you understand me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 has a new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nten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 sister’s name is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usann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 live in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fferson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ty,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nness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Which part of the sentence has a capitalization error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 night | I saw Mrs. | jones at the | school talent show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st nigh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saw Mr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ones at the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chool talent show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0" name="chalkboard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6067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Which part of the sentence has a capitalization error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 night | I saw Mrs. | jones at the | school talent show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igh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saw Mr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jones at the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chool talent show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3" name="chalkboard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6067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Ending Punctu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period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 statement or command.  A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question mark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 question.  An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exclamation poi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n exclamatory sentence.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62120" y="42667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Please sit down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Did you hear me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I said, “Sit down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!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hoose the answer that shows the best punctuation for the underlined par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girls raided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kitchen the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were hungry after the long training run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. 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,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;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9" name="runners1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94328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hoose the answer that shows the best punctuation for the underlined par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girls raided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kitchen the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were hungry after the long training run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kitchen. 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,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;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52" name="runners1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628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Proofreading Results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en you have checked for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topic sentence,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mplete sentences,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rrect capitalization, and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rrect punctuation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re should be a well written paragraph!!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55" name="happyexclaim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3622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Comic Sans MS"/>
              </a:rPr>
              <a:t>What is proofreading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Comic Sans MS"/>
              </a:rPr>
              <a:t>Proofreading </a:t>
            </a: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is what we call it when we read and correct something that has been written.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13" name="writing" descr=""/>
          <p:cNvPicPr/>
          <p:nvPr/>
        </p:nvPicPr>
        <p:blipFill>
          <a:blip r:embed="rId1"/>
          <a:stretch/>
        </p:blipFill>
        <p:spPr>
          <a:xfrm>
            <a:off x="6095880" y="2666880"/>
            <a:ext cx="22399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Things we look for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a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topic sentenc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written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mplete sentenc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that make sens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apital letter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in the right plac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our sentences hav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rrect punctuation mark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t the end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Topic Sente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of a paragraph states the main idea and attracts the reader's interest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914040" y="41148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like zebra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Don’t eat pizza!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y name is Brian Jo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19" name="boy5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743200" cy="1419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Choose the topic sentence that best fits the paragraph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________________________  I am nine years old and am in the third grade.  I like chocolate ice cream and swimming in the lake. 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. I am a soccer player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B. My name is Matthew Mag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. How old are you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22" name="boy1x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800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Choose the topic sentence that best fits the paragraph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________________________  I am nine years old and am in the third grade.  I like chocolate ice cream and swimming in the lake. 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. I am a soccer player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B. My name is Matthew Mag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. How old are you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25" name="boy1x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800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Complete senten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mplete sentenc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is a group of words that expresses a complete thought (and has a subject and a verb)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09480" y="44193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have two new friend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at boy needs a new pair of sho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at is your favorite thing to eat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hile he worked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On the computer Eric spends his time he likes to play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Eric spends his spare time playing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 Eric spent his vacation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31" name="cmptr1x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3623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hile he worked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On the computer Eric spends his time he likes to play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C.</a:t>
            </a: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Eric spends his spare time playing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 Eric spent his vacation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34" name="cmptr1x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5146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9:16Z</dcterms:created>
  <dc:creator>Jefferson County Schools Jeff</dc:creator>
  <dc:description/>
  <dc:language>en-US</dc:language>
  <cp:lastModifiedBy>Jefferson County Schools Jeff</cp:lastModifiedBy>
  <dcterms:modified xsi:type="dcterms:W3CDTF">2002-02-26T19:17:30Z</dcterms:modified>
  <cp:revision>6</cp:revision>
  <dc:subject/>
  <dc:title>What Possessed You?</dc:title>
</cp:coreProperties>
</file>