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18E5-6A3F-4698-99B7-F170B6981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861D-8A31-4DCA-B617-12F6AB63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F8CF-34A2-460F-A8D1-00C36FE81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5AD8-0668-4D00-916F-930331DE5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DC24-DF5C-4D07-8D78-6EB2BAC8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4FF3-9572-4FA9-88D6-2EBF3AFE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8BC3-5583-42B0-AA9D-F564DB37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EF87-0230-47DF-B739-1E4CC3FC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8024-E4FF-49D9-B781-2D06ABAA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1E22-D270-4761-8892-FEE32553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DE58-9C4D-4210-A4B3-403607D1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6A48-A705-4F5A-B38D-FA65ECEE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0FF0-5775-47BD-9986-4342F538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3C7B-01E8-4BAF-B1E7-80733BAE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449F-0926-459E-8797-D357167D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1F72-F033-4951-888E-F751F5F97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C3BC-6842-4267-ADD9-B09DD07FA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A2C8-F1D1-4563-8BEF-59B2E8FB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1CDF-28C9-4CE4-B0DE-EAE99DF3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06B6-A221-4625-8D9B-9BBEC2AA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D683-A930-425F-8DC9-F3C9E888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034B-E02D-429B-AF43-69E5025C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3264-4095-4435-83E7-B493CFDE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5267-152F-4D9B-BA03-E1C04B5E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306A-FD46-4C82-8BA2-C1C428F38222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4ECF-D3DF-4255-A229-A92C120EEDA2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8f8f8"/>
                </a:solidFill>
                <a:latin typeface="Comic Sans MS"/>
              </a:rPr>
              <a:t>Proofreading</a:t>
            </a:r>
            <a:endParaRPr b="0" lang="en-US" sz="80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Comic Sans MS"/>
              </a:rPr>
              <a:t>Resource </a:t>
            </a:r>
            <a:endParaRPr b="0" lang="en-US" sz="4800" spc="-1" strike="noStrike">
              <a:solidFill>
                <a:srgbClr val="f8f8f8"/>
              </a:solidFill>
              <a:latin typeface="Comic Sans MS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Comic Sans MS"/>
              </a:rPr>
              <a:t>Grades 3-5</a:t>
            </a:r>
            <a:endParaRPr b="0" lang="en-US" sz="48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omic Sans MS"/>
              </a:rPr>
              <a:t>Capital Letter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apital letters are used at the beginning of each sentence and for proper noun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or example…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62120" y="38858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o you understand me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H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 has a new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ntend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y sister’s name is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usann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W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 live in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fferson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ty,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nnesse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Which part of the sentence has a capitalization error?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Last night | I saw Mrs. | jones at the | school talent show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Last night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 saw Mr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jones at the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D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chool talent show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40" name="chalkboard" descr=""/>
          <p:cNvPicPr/>
          <p:nvPr/>
        </p:nvPicPr>
        <p:blipFill>
          <a:blip r:embed="rId1"/>
          <a:stretch/>
        </p:blipFill>
        <p:spPr>
          <a:xfrm>
            <a:off x="5867280" y="3505320"/>
            <a:ext cx="260676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Which part of the sentence has a capitalization error?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Last night | I saw Mrs. | jones at the | school talent show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Last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night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 saw Mr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jones at the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D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chool talent show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43" name="chalkboard" descr=""/>
          <p:cNvPicPr/>
          <p:nvPr/>
        </p:nvPicPr>
        <p:blipFill>
          <a:blip r:embed="rId1"/>
          <a:stretch/>
        </p:blipFill>
        <p:spPr>
          <a:xfrm>
            <a:off x="5867280" y="3505320"/>
            <a:ext cx="260676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Ending Punctuatio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6699ff"/>
                </a:solidFill>
                <a:latin typeface="Comic Sans MS"/>
              </a:rPr>
              <a:t>period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is used at the end of a statement or command.  A </a:t>
            </a:r>
            <a:r>
              <a:rPr b="0" lang="en-US" sz="2800" spc="-1" strike="noStrike">
                <a:solidFill>
                  <a:srgbClr val="6699ff"/>
                </a:solidFill>
                <a:latin typeface="Comic Sans MS"/>
              </a:rPr>
              <a:t>question mark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is used at the end of a question.  An </a:t>
            </a:r>
            <a:r>
              <a:rPr b="0" lang="en-US" sz="2800" spc="-1" strike="noStrike">
                <a:solidFill>
                  <a:srgbClr val="6699ff"/>
                </a:solidFill>
                <a:latin typeface="Comic Sans MS"/>
              </a:rPr>
              <a:t>exclamation point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is used at the end of an exclamatory sentence.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For example…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762120" y="426672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Please sit down</a:t>
            </a: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Did you hear me</a:t>
            </a: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I said, “Sit down</a:t>
            </a: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!</a:t>
            </a: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”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Choose the answer that shows the best punctuation for the underlined par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23623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e girls raided the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Comic Sans MS"/>
              </a:rPr>
              <a:t>kitchen they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were hungry after the long training run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kitchen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kitchen. 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kitchen,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D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kitchen;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49" name="runners1" descr=""/>
          <p:cNvPicPr/>
          <p:nvPr/>
        </p:nvPicPr>
        <p:blipFill>
          <a:blip r:embed="rId1"/>
          <a:stretch/>
        </p:blipFill>
        <p:spPr>
          <a:xfrm>
            <a:off x="6095880" y="4191120"/>
            <a:ext cx="194328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Choose the answer that shows the best punctuation for the underlined par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e girls raided the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Comic Sans MS"/>
              </a:rPr>
              <a:t>kitchen they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were hungry after the long training run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kitchen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kitchen. 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kitchen,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D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kitchen;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52" name="runners1" descr=""/>
          <p:cNvPicPr/>
          <p:nvPr/>
        </p:nvPicPr>
        <p:blipFill>
          <a:blip r:embed="rId1"/>
          <a:stretch/>
        </p:blipFill>
        <p:spPr>
          <a:xfrm>
            <a:off x="5791320" y="4114800"/>
            <a:ext cx="26287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omic Sans MS"/>
              </a:rPr>
              <a:t>Proofreading Results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hen you have checked for 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A topic sentence,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omplete sentences,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orrect capitalization, and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orrect punctuation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ere should be a well written paragraph!!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55" name="happyexclaim" descr=""/>
          <p:cNvPicPr/>
          <p:nvPr/>
        </p:nvPicPr>
        <p:blipFill>
          <a:blip r:embed="rId1"/>
          <a:stretch/>
        </p:blipFill>
        <p:spPr>
          <a:xfrm>
            <a:off x="7010280" y="2057400"/>
            <a:ext cx="136224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Comic Sans MS"/>
              </a:rPr>
              <a:t>What is proofreading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2362320"/>
            <a:ext cx="54104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1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ff"/>
                </a:solidFill>
                <a:latin typeface="Comic Sans MS"/>
              </a:rPr>
              <a:t>Proofreading </a:t>
            </a:r>
            <a:r>
              <a:rPr b="0" lang="en-US" sz="4400" spc="-1" strike="noStrike">
                <a:solidFill>
                  <a:srgbClr val="f8f8f8"/>
                </a:solidFill>
                <a:latin typeface="Comic Sans MS"/>
              </a:rPr>
              <a:t>is what we call it when we read and correct something that has been written.</a:t>
            </a:r>
            <a:endParaRPr b="0" lang="en-US" sz="44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13" name="writing" descr=""/>
          <p:cNvPicPr/>
          <p:nvPr/>
        </p:nvPicPr>
        <p:blipFill>
          <a:blip r:embed="rId1"/>
          <a:stretch/>
        </p:blipFill>
        <p:spPr>
          <a:xfrm>
            <a:off x="6095880" y="2666880"/>
            <a:ext cx="223992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Things we look for…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e check to see if we have a </a:t>
            </a:r>
            <a:r>
              <a:rPr b="0" lang="en-US" sz="3200" spc="-1" strike="noStrike">
                <a:solidFill>
                  <a:srgbClr val="6699ff"/>
                </a:solidFill>
                <a:latin typeface="Comic Sans MS"/>
              </a:rPr>
              <a:t>topic sentenc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e check to see if we have written </a:t>
            </a:r>
            <a:r>
              <a:rPr b="0" lang="en-US" sz="3200" spc="-1" strike="noStrike">
                <a:solidFill>
                  <a:srgbClr val="6699ff"/>
                </a:solidFill>
                <a:latin typeface="Comic Sans MS"/>
              </a:rPr>
              <a:t>complete sentenc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that make sens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e check to see if we have </a:t>
            </a:r>
            <a:r>
              <a:rPr b="0" lang="en-US" sz="3200" spc="-1" strike="noStrike">
                <a:solidFill>
                  <a:srgbClr val="6699ff"/>
                </a:solidFill>
                <a:latin typeface="Comic Sans MS"/>
              </a:rPr>
              <a:t>capital letter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in the right place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e check to see if our sentences have </a:t>
            </a:r>
            <a:r>
              <a:rPr b="0" lang="en-US" sz="3200" spc="-1" strike="noStrike">
                <a:solidFill>
                  <a:srgbClr val="6699ff"/>
                </a:solidFill>
                <a:latin typeface="Comic Sans MS"/>
              </a:rPr>
              <a:t>correct punctuation mark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at the end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Topic Sentenc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6699ff"/>
                </a:solidFill>
                <a:latin typeface="Comic Sans MS"/>
              </a:rPr>
              <a:t>topic sentence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of a paragraph states the main idea and attracts the reader's interest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or example…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914040" y="41148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 like zebra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Don’t eat pizza!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y name is Brian Jone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19" name="boy5" descr=""/>
          <p:cNvPicPr/>
          <p:nvPr/>
        </p:nvPicPr>
        <p:blipFill>
          <a:blip r:embed="rId1"/>
          <a:stretch/>
        </p:blipFill>
        <p:spPr>
          <a:xfrm>
            <a:off x="5181480" y="3505320"/>
            <a:ext cx="2743200" cy="14191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Choose the topic sentence that best fits the paragraph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________________________  I am nine years old and am in the third grade.  I like chocolate ice cream and swimming in the lake.  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A. I am a soccer player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B. My name is Matthew Mage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. How old are you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22" name="boy1x" descr=""/>
          <p:cNvPicPr/>
          <p:nvPr/>
        </p:nvPicPr>
        <p:blipFill>
          <a:blip r:embed="rId1"/>
          <a:stretch/>
        </p:blipFill>
        <p:spPr>
          <a:xfrm>
            <a:off x="7543800" y="3809880"/>
            <a:ext cx="8002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Choose the topic sentence that best fits the paragraph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________________________  I am nine years old and am in the third grade.  I like chocolate ice cream and swimming in the lake.  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A. I am a soccer player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B. My name is Matthew Mage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. How old are you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25" name="boy1x" descr=""/>
          <p:cNvPicPr/>
          <p:nvPr/>
        </p:nvPicPr>
        <p:blipFill>
          <a:blip r:embed="rId1"/>
          <a:stretch/>
        </p:blipFill>
        <p:spPr>
          <a:xfrm>
            <a:off x="7543800" y="3809880"/>
            <a:ext cx="8002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omic Sans MS"/>
              </a:rPr>
              <a:t>Complete sentenc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A </a:t>
            </a:r>
            <a:r>
              <a:rPr b="0" lang="en-US" sz="3200" spc="-1" strike="noStrike">
                <a:solidFill>
                  <a:srgbClr val="6699ff"/>
                </a:solidFill>
                <a:latin typeface="Comic Sans MS"/>
              </a:rPr>
              <a:t>complete sentence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is a group of words that expresses a complete thought (and has a subject and a verb)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or example…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09480" y="4419360"/>
            <a:ext cx="7848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 have two new friend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at boy needs a new pair of shoe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hat is your favorite thing to eat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Choose the answer that is written correctly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-22392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Comic Sans MS"/>
              </a:rPr>
              <a:t>A.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While he worked on the computer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19960" indent="-22392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Comic Sans MS"/>
              </a:rPr>
              <a:t>B.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On the computer Eric spends his time he likes to play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19960" indent="-22392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Comic Sans MS"/>
              </a:rPr>
              <a:t>C.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Eric spends his spare time playing on the computer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19960" indent="-22392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Comic Sans MS"/>
              </a:rPr>
              <a:t>D.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As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 Eric spent his vacation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31" name="cmptr1x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36232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Choose the answer that is written correctly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Comic Sans MS"/>
              </a:rPr>
              <a:t>A.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While he worked on the computer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Comic Sans MS"/>
              </a:rPr>
              <a:t>B.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On the computer Eric spends his time he likes to play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Comic Sans MS"/>
              </a:rPr>
              <a:t>C.</a:t>
            </a:r>
            <a:r>
              <a:rPr b="0" lang="en-US" sz="36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9933ff"/>
                </a:solidFill>
                <a:latin typeface="Comic Sans MS"/>
              </a:rPr>
              <a:t>Eric spends his spare time playing on the computer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Comic Sans MS"/>
              </a:rPr>
              <a:t>D.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As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 Eric spent his vacation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34" name="cmptr1x" descr=""/>
          <p:cNvPicPr/>
          <p:nvPr/>
        </p:nvPicPr>
        <p:blipFill>
          <a:blip r:embed="rId1"/>
          <a:stretch/>
        </p:blipFill>
        <p:spPr>
          <a:xfrm>
            <a:off x="6400800" y="380880"/>
            <a:ext cx="251460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15:29:16Z</dcterms:created>
  <dc:creator>Jefferson County Schools Jeff</dc:creator>
  <dc:description/>
  <dc:language>en-US</dc:language>
  <cp:lastModifiedBy>Jefferson County Schools Jeff</cp:lastModifiedBy>
  <dcterms:modified xsi:type="dcterms:W3CDTF">2002-02-26T19:17:30Z</dcterms:modified>
  <cp:revision>6</cp:revision>
  <dc:subject/>
  <dc:title>What Possessed You?</dc:title>
</cp:coreProperties>
</file>