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B29-8BC2-4F7C-AEA7-57BFADF0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FC6-0EE9-4796-BE9C-1D9BCDD5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FD8-09E5-4B01-AC08-13416622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C65-6869-4751-9587-92A930BB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F3D2-60DB-42DB-92FD-9C004C99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9B73-020F-4D1B-B5EF-B3FB8C48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285E-DD0C-4C69-9ADD-A1A0561B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31B1-0717-44CA-B755-C19D2921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1F08-0DE8-4AB3-B6BB-B6C25FB9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FF59-B78F-4D7E-9777-784B5E9E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75C3-97CF-49BA-AE05-542976F2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410-1135-4592-B9EC-6E7CA304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3E7E-A75F-4B4E-AA79-7ADD9A5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B121-4739-4E67-ADF4-66C798A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0172-8D35-4517-A992-3ECF822D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556C-B939-4D7E-9FC6-981249DE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DEC9-CA44-4A1B-8B3E-C56655AA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921-4F7C-4C14-8896-711D43CE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ABE-FF96-46B8-A3C2-DD133186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473-5011-44A2-A451-E294BC1B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8BD-6AC1-4C99-BECE-E487609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20A-C7F7-4006-A3DE-52698FA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244-7500-43DD-A73B-72B63452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D4A-5CCB-4B16-A263-889BD3AA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272B-0B9C-42E7-A02A-2650BA93E0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5252-F5D5-42C6-A735-AC397C6976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cc66"/>
                </a:solidFill>
                <a:latin typeface="Times New Roman"/>
              </a:rPr>
              <a:t>Mechanics Mania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de 4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school is closed on ________________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olumbus D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lumbus D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columbussail" descr=""/>
          <p:cNvPicPr/>
          <p:nvPr/>
        </p:nvPicPr>
        <p:blipFill>
          <a:blip r:embed="rId1"/>
          <a:stretch/>
        </p:blipFill>
        <p:spPr>
          <a:xfrm>
            <a:off x="7162920" y="3962520"/>
            <a:ext cx="14382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Open your folder, take out your homework,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Open your folder,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Open your folder; take out your homework;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C. Open your folder, take out your homework, and pass it forwar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Open your folder: take out your homework and pass it forwar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bookbig" descr=""/>
          <p:cNvPicPr/>
          <p:nvPr/>
        </p:nvPicPr>
        <p:blipFill>
          <a:blip r:embed="rId1"/>
          <a:stretch/>
        </p:blipFill>
        <p:spPr>
          <a:xfrm>
            <a:off x="6553080" y="5943600"/>
            <a:ext cx="1524240" cy="68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Choose the answer that best completes the sentence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store will open on _________________________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.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May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,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ay, 29 199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following items will be required at camp: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is punctuated correctly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. The following items will be required at camp- sleeping bag, 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B. The following items will be required at camp: sleeping bag, tent, hiking shoes, and comp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following items will be required at camp,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. The following items will be required at camp; sleeping bag, tent, hiking shoes, and compas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e title of the book is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sentence does not contain capitaliza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rrors?</a:t>
            </a:r>
            <a:br>
              <a:rPr sz="2000"/>
            </a:br>
            <a:br>
              <a:rPr sz="20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A.The title of the book is The Wipple Myste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. The title of the book is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The title of the book is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he wipple myster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bookturn3" descr=""/>
          <p:cNvPicPr/>
          <p:nvPr/>
        </p:nvPicPr>
        <p:blipFill>
          <a:blip r:embed="rId1"/>
          <a:stretch/>
        </p:blipFill>
        <p:spPr>
          <a:xfrm>
            <a:off x="7543800" y="3352680"/>
            <a:ext cx="1295280" cy="990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Proofreading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oofreading involves applying an understanding of punctuation and capitalization rules to review written work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T’S ALL FOLKS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An interesting way to improve proofreading skills for punctuation and capitalization is to develop sentences with punctuation and capitalization errors.  </a:t>
            </a:r>
            <a:br>
              <a:rPr sz="2800"/>
            </a:b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The following is an example:</a:t>
            </a:r>
            <a:br>
              <a:rPr sz="3200"/>
            </a:b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o punctuation or capitalization: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 bacon and juice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unctuation and capitalization:          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 bought eggs, bacon, and juice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eggs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1371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4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We watch fireworks on the Fourth of july.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We watch fireworks on the fourth of ju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C. We watch fireworks on the Fourth of July</a:t>
            </a: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We watch Fireworks on the fourth of Jul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firewrkx" descr=""/>
          <p:cNvPicPr/>
          <p:nvPr/>
        </p:nvPicPr>
        <p:blipFill>
          <a:blip r:embed="rId1"/>
          <a:stretch/>
        </p:blipFill>
        <p:spPr>
          <a:xfrm>
            <a:off x="7696080" y="518148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sentences does </a:t>
            </a: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not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contain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B. Jorge recently moved here from South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Amer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. jorge recently moved here from south amer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ich of the following contains a capitalization mistake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New York is a big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John Steinbeck is a well-known auth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he army consisted of over a thousand soldi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D. Marisol likes to have relatives visit during the Holi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5:49Z</dcterms:created>
  <dc:creator>Jefferson County Schools</dc:creator>
  <dc:description/>
  <dc:language>en-US</dc:language>
  <cp:lastModifiedBy>Jefferson County Schools</cp:lastModifiedBy>
  <dcterms:modified xsi:type="dcterms:W3CDTF">2002-02-26T19:11:11Z</dcterms:modified>
  <cp:revision>15</cp:revision>
  <dc:subject/>
  <dc:title>Mechanics Mania</dc:title>
</cp:coreProperties>
</file>