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6.png" ContentType="image/png"/>
  <Override PartName="/ppt/media/carbrake.wav" ContentType="audio/x-wav"/>
  <Override PartName="/ppt/media/image8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driveby.wav" ContentType="audio/x-wav"/>
  <Override PartName="/ppt/media/image2.png" ContentType="image/png"/>
  <Override PartName="/ppt/media/image1.gif" ContentType="image/gif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736-E0B8-4859-AFC8-2C6DF2A8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E13-0217-4DDF-8383-3379BA71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28F-BC2A-4A4F-83D0-5F53BB32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D11-9D4D-4119-AD26-8EEDDDB6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9696-C020-4AB1-A5AB-9F314A3C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AA23-31B7-4DD0-B192-E610CA7E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C05D-8A50-45E3-9F6B-E52E0C07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A541-BA3D-4B28-9672-1A3DB69B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48F-D2BF-48EA-8F0B-B817961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30D-098D-4287-95C8-0717B29D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CC8A-FADE-4CC4-8A20-5DDA430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DEA-8564-4452-AF29-B01C1E6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ABA1-F646-428E-8085-1B98708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C1D-9A94-4FF3-8188-0DD30FA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8504-CAEE-491F-936B-A8838D6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AEA7-C7DF-4FBB-89A4-3ACE946D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83D3-3C38-45EC-B4DE-7EADB241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013-A8ED-462E-AB6F-2A78C029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105-010D-4FA3-BF7B-D25698B1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9FA-6E81-40A3-9E86-9AB9292E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C9A-F773-4BC8-9CB3-1802D26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D7C-77A1-4DD1-8CBA-A12BE0F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E35-4BCA-4EE1-A313-C1C2175C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D72-D97F-46B8-B1B6-0597FF6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BF29-FB5F-474F-8824-D0E0871D7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8D9F-4ECF-4898-9810-41D5DC92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hlschool.com/eng4n17.htm" TargetMode="External"/><Relationship Id="rId2" Type="http://schemas.openxmlformats.org/officeDocument/2006/relationships/hyperlink" Target="http://www.rhlschool.com/eng4n9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Let’s Proofrea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ncilsanim" descr=""/>
          <p:cNvPicPr/>
          <p:nvPr/>
        </p:nvPicPr>
        <p:blipFill>
          <a:blip r:embed="rId1"/>
          <a:stretch/>
        </p:blipFill>
        <p:spPr>
          <a:xfrm>
            <a:off x="7086600" y="3733920"/>
            <a:ext cx="14860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d 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b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bject-Verb Agre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u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okkstak_apple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971640" cy="546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een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was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boys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s 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editor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822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a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boys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help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993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more practice, print and complete the foll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roof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Finding More Viol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rayonline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5715000" cy="171360"/>
          </a:xfrm>
          <a:prstGeom prst="rect">
            <a:avLst/>
          </a:prstGeom>
          <a:ln w="0">
            <a:noFill/>
          </a:ln>
        </p:spPr>
      </p:pic>
      <p:pic>
        <p:nvPicPr>
          <p:cNvPr id="167" name="crayonline" descr=""/>
          <p:cNvPicPr/>
          <p:nvPr/>
        </p:nvPicPr>
        <p:blipFill>
          <a:blip r:embed="rId4"/>
          <a:stretch/>
        </p:blipFill>
        <p:spPr>
          <a:xfrm>
            <a:off x="3048120" y="1447920"/>
            <a:ext cx="57150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proofread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ofreading a sentence means trying to find a mistake and correc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acherangry" descr=""/>
          <p:cNvPicPr/>
          <p:nvPr/>
        </p:nvPicPr>
        <p:blipFill>
          <a:blip r:embed="rId1"/>
          <a:stretch/>
        </p:blipFill>
        <p:spPr>
          <a:xfrm>
            <a:off x="7315200" y="3581280"/>
            <a:ext cx="1531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on Mistak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O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udentboard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332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arks – periods, question marks, and exclamations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 – date, words in a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a+kid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15652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kids3b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1430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rbrak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tudentprepared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italizatio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ginning of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rite-icon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1063800" cy="8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ily smith goes to maple ridge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d you carry the f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,C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ook_belt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6113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h goes to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g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rry the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ay,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deskset" descr=""/>
          <p:cNvPicPr/>
          <p:nvPr/>
        </p:nvPicPr>
        <p:blipFill>
          <a:blip r:embed="rId1"/>
          <a:stretch/>
        </p:blipFill>
        <p:spPr>
          <a:xfrm>
            <a:off x="7315200" y="5181480"/>
            <a:ext cx="1325520" cy="112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32:08Z</dcterms:created>
  <dc:creator>Jefferson County Schools </dc:creator>
  <dc:description/>
  <dc:language>en-US</dc:language>
  <cp:lastModifiedBy>Jefferson County Schools </cp:lastModifiedBy>
  <dcterms:modified xsi:type="dcterms:W3CDTF">2002-02-22T18:28:07Z</dcterms:modified>
  <cp:revision>9</cp:revision>
  <dc:subject/>
  <dc:title>Let’s Proofread</dc:title>
</cp:coreProperties>
</file>