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6.png" ContentType="image/png"/>
  <Override PartName="/ppt/media/carbrake.wav" ContentType="audio/x-wav"/>
  <Override PartName="/ppt/media/image8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camera.wav" ContentType="audio/x-wav"/>
  <Override PartName="/ppt/media/image10.png" ContentType="image/png"/>
  <Override PartName="/ppt/media/image5.png" ContentType="image/png"/>
  <Override PartName="/ppt/media/driveby.wav" ContentType="audio/x-wav"/>
  <Override PartName="/ppt/media/image2.png" ContentType="image/png"/>
  <Override PartName="/ppt/media/image1.gif" ContentType="image/gif"/>
  <Override PartName="/ppt/media/image4.png" ContentType="image/png"/>
  <Override PartName="/ppt/media/chimes.wav" ContentType="audio/x-wav"/>
  <Override PartName="/ppt/media/clap.wav" ContentType="audio/x-wav"/>
  <Override PartName="/ppt/media/gunshot.wav" ContentType="audio/x-wav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245-4C4E-4408-8055-610D9FBE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685-32A9-4F16-B19F-96CF1B59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BE6D-6210-4ADB-804F-B601BECA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CF48-BC47-4A16-8060-C22E9457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9D2A-6448-49FC-B329-8B396C05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CCB2-C04E-49A7-8098-5558958F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4126-37D6-4E57-B0A5-24DE166F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0EB8-2BB0-46FB-80E0-F0CC114F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EC0C-CBDB-4159-A2EE-C7E37D74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5355-B383-43B6-9D68-B8DCAC33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5D6B-A330-4AB5-8472-D4C35BED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F926-3D6F-437B-AA70-B8F9FC61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819A-11B7-485A-B7E5-7CBC103D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B9BB-D7A7-4858-B98D-91685DDA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6821-54E0-434D-ADC8-07447099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2BB8-3175-4299-B1B0-C7DAEFD8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FB99-BDA5-411D-9714-2A21C1C5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52E-833C-4DCF-8A2D-90DB178B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4BE-DBFE-435B-A232-A26B306E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D5BB-CF4F-430C-8CF8-39C2D5B3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717-6893-479F-A023-8DE05381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D1B-CAD6-4621-922A-53F649C1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CE90-D34C-4740-B643-C190F7F8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FF2-15A7-4774-82A4-75AEC666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9A02-CD89-4825-B60B-FBCCA4B94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312A-EEB0-40EA-A53C-F9F3884D0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hlschool.com/eng4n17.htm" TargetMode="External"/><Relationship Id="rId2" Type="http://schemas.openxmlformats.org/officeDocument/2006/relationships/hyperlink" Target="http://www.rhlschool.com/eng4n9.htm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Let’s Proofread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d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encilsanim" descr=""/>
          <p:cNvPicPr/>
          <p:nvPr/>
        </p:nvPicPr>
        <p:blipFill>
          <a:blip r:embed="rId1"/>
          <a:stretch/>
        </p:blipFill>
        <p:spPr>
          <a:xfrm>
            <a:off x="7086600" y="3733920"/>
            <a:ext cx="1486080" cy="28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ord Usa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erb Ten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ubject-Verb Agre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ssess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lur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bokkstak_apple" descr=""/>
          <p:cNvPicPr/>
          <p:nvPr/>
        </p:nvPicPr>
        <p:blipFill>
          <a:blip r:embed="rId1"/>
          <a:stretch/>
        </p:blipFill>
        <p:spPr>
          <a:xfrm>
            <a:off x="7315200" y="685800"/>
            <a:ext cx="971640" cy="5464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seen a rabbit in the yar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es was in her bed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boys toys disappea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ir desks were messy 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editor" descr=""/>
          <p:cNvPicPr/>
          <p:nvPr/>
        </p:nvPicPr>
        <p:blipFill>
          <a:blip r:embed="rId1"/>
          <a:stretch/>
        </p:blipFill>
        <p:spPr>
          <a:xfrm>
            <a:off x="7620120" y="5257800"/>
            <a:ext cx="8222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a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 rabbit in the yar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es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we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her bed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boys’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ys disappear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ir desk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re messy 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help" descr=""/>
          <p:cNvPicPr/>
          <p:nvPr/>
        </p:nvPicPr>
        <p:blipFill>
          <a:blip r:embed="rId1"/>
          <a:stretch/>
        </p:blipFill>
        <p:spPr>
          <a:xfrm>
            <a:off x="7315200" y="5257800"/>
            <a:ext cx="9936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did you do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r more practice, print and complete the follow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Proofrea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Finding More Violat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crayonline" descr=""/>
          <p:cNvPicPr/>
          <p:nvPr/>
        </p:nvPicPr>
        <p:blipFill>
          <a:blip r:embed="rId3"/>
          <a:stretch/>
        </p:blipFill>
        <p:spPr>
          <a:xfrm>
            <a:off x="1143000" y="6248520"/>
            <a:ext cx="5715000" cy="171360"/>
          </a:xfrm>
          <a:prstGeom prst="rect">
            <a:avLst/>
          </a:prstGeom>
          <a:ln w="0">
            <a:noFill/>
          </a:ln>
        </p:spPr>
      </p:pic>
      <p:pic>
        <p:nvPicPr>
          <p:cNvPr id="167" name="crayonline" descr=""/>
          <p:cNvPicPr/>
          <p:nvPr/>
        </p:nvPicPr>
        <p:blipFill>
          <a:blip r:embed="rId4"/>
          <a:stretch/>
        </p:blipFill>
        <p:spPr>
          <a:xfrm>
            <a:off x="3048120" y="1447920"/>
            <a:ext cx="57150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proofreadin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ofreading a sentence means trying to find a mistake and correct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teacherangry" descr=""/>
          <p:cNvPicPr/>
          <p:nvPr/>
        </p:nvPicPr>
        <p:blipFill>
          <a:blip r:embed="rId1"/>
          <a:stretch/>
        </p:blipFill>
        <p:spPr>
          <a:xfrm>
            <a:off x="7315200" y="3581280"/>
            <a:ext cx="15318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mon Mistakes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c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-O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tudentboard" descr=""/>
          <p:cNvPicPr/>
          <p:nvPr/>
        </p:nvPicPr>
        <p:blipFill>
          <a:blip r:embed="rId1"/>
          <a:stretch/>
        </p:blipFill>
        <p:spPr>
          <a:xfrm>
            <a:off x="4038480" y="4267080"/>
            <a:ext cx="233208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nctu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marks – periods, question marks, and exclamations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s – date, words in a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reviations and Ti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ation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a+kid" descr=""/>
          <p:cNvPicPr/>
          <p:nvPr/>
        </p:nvPicPr>
        <p:blipFill>
          <a:blip r:embed="rId1"/>
          <a:stretch/>
        </p:blipFill>
        <p:spPr>
          <a:xfrm>
            <a:off x="6095880" y="4267080"/>
            <a:ext cx="1565280" cy="1703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ee the deer in the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 delicious pizza this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irthday is November 20 19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Smith moved to Wash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over there, said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kids3b" descr=""/>
          <p:cNvPicPr/>
          <p:nvPr/>
        </p:nvPicPr>
        <p:blipFill>
          <a:blip r:embed="rId1"/>
          <a:stretch/>
        </p:blipFill>
        <p:spPr>
          <a:xfrm>
            <a:off x="7162920" y="685800"/>
            <a:ext cx="1143000" cy="1211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  <p:sndAc>
      <p:stSnd>
        <p:snd r:embed="rId2" name="carbrak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ee the deer in the distance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 delicious pizza this is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irthday is November 20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mith moved to Washing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over there,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id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studentprepared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1318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pitalization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ginning of sent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per 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it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write-icon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1063800" cy="811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gunshot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visited the Space Muse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ily smith goes to maple ridge s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you rea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d you carry the fla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day,Charl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book_belt" descr=""/>
          <p:cNvPicPr/>
          <p:nvPr/>
        </p:nvPicPr>
        <p:blipFill>
          <a:blip r:embed="rId1"/>
          <a:stretch/>
        </p:blipFill>
        <p:spPr>
          <a:xfrm>
            <a:off x="7010280" y="1752480"/>
            <a:ext cx="161136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n you correct these senten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 visited the Space Muse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y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th goes to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l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ge 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you read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D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d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Y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u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C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rry the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F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a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T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day,</a:t>
            </a:r>
            <a:r>
              <a:rPr b="0" lang="en-US" sz="4000" spc="-1" strike="noStrike" u="sng">
                <a:solidFill>
                  <a:srgbClr val="3366cc"/>
                </a:solidFill>
                <a:uFillTx/>
                <a:latin typeface="Arial"/>
              </a:rPr>
              <a:t>C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arl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deskset" descr=""/>
          <p:cNvPicPr/>
          <p:nvPr/>
        </p:nvPicPr>
        <p:blipFill>
          <a:blip r:embed="rId1"/>
          <a:stretch/>
        </p:blipFill>
        <p:spPr>
          <a:xfrm>
            <a:off x="7315200" y="5181480"/>
            <a:ext cx="1325520" cy="1121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  <p:sndAc>
      <p:stSnd>
        <p:snd r:embed="rId2" name="driveb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4:32:08Z</dcterms:created>
  <dc:creator>Jefferson County Schools </dc:creator>
  <dc:description/>
  <dc:language>en-US</dc:language>
  <cp:lastModifiedBy>Jefferson County Schools </cp:lastModifiedBy>
  <dcterms:modified xsi:type="dcterms:W3CDTF">2002-02-22T18:28:07Z</dcterms:modified>
  <cp:revision>9</cp:revision>
  <dc:subject/>
  <dc:title>Let’s Proofread</dc:title>
</cp:coreProperties>
</file>