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6.png" ContentType="image/png"/>
  <Override PartName="/ppt/media/carbrake.wav" ContentType="audio/x-wav"/>
  <Override PartName="/ppt/media/image8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camera.wav" ContentType="audio/x-wav"/>
  <Override PartName="/ppt/media/image10.png" ContentType="image/png"/>
  <Override PartName="/ppt/media/image5.png" ContentType="image/png"/>
  <Override PartName="/ppt/media/driveby.wav" ContentType="audio/x-wav"/>
  <Override PartName="/ppt/media/image2.png" ContentType="image/png"/>
  <Override PartName="/ppt/media/image1.gif" ContentType="image/gif"/>
  <Override PartName="/ppt/media/image4.png" ContentType="image/png"/>
  <Override PartName="/ppt/media/chimes.wav" ContentType="audio/x-wav"/>
  <Override PartName="/ppt/media/clap.wav" ContentType="audio/x-wav"/>
  <Override PartName="/ppt/media/gunshot.wav" ContentType="audio/x-wav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3EE-1CAF-46A2-A0EF-41463039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CFA-F851-494B-A38C-F5FDEDA4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B55-038B-4B98-A24F-D4BE7ED4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08E-DEE2-466D-84D3-3BD3A439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60DA-FE18-403C-AF21-4B787A14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6BC8-93D5-4521-B329-123F40D5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8C57-ABBF-438A-B9CA-36593D72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DE66-157B-4EFE-A925-FF123D15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8375-9258-46CD-8EA2-929FF63F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B617-75A5-4620-8E38-C1BAB1A8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C3D7-BA7D-4E96-BDB0-9ED0612F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B41-F4DD-4933-BF9F-3AF974DF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7FA4-319A-4723-B392-937AE79A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B448-6169-4377-8BDB-0727C85A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3011-2E91-44FC-8D81-202BBADD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590D-919B-484D-A4B4-DD3EF79C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9797-3C1C-4DDB-9909-DF850C28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2155-589B-4695-B914-0F2AEDBE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014-E52F-49D1-BE5E-C04A796B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9B2-ECD6-4FD5-A44E-BE36BFAC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C8C-29BD-46A3-8367-7A3C7D4B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882-6D91-4349-AEE7-E654EC58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E35-49E2-412A-8E80-BBC696A2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261-DE79-4E38-B58A-C3357333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5E91-EDF5-4E1A-9FAE-15A7E1BEC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CC05-3496-4C97-BCC3-BF102F17E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hlschool.com/eng4n17.htm" TargetMode="External"/><Relationship Id="rId2" Type="http://schemas.openxmlformats.org/officeDocument/2006/relationships/hyperlink" Target="http://www.rhlschool.com/eng4n9.htm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Let’s Proofread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encilsanim" descr=""/>
          <p:cNvPicPr/>
          <p:nvPr/>
        </p:nvPicPr>
        <p:blipFill>
          <a:blip r:embed="rId1"/>
          <a:stretch/>
        </p:blipFill>
        <p:spPr>
          <a:xfrm>
            <a:off x="7086600" y="3733920"/>
            <a:ext cx="1486080" cy="28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ord Us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erb 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bject-Verb Agre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ssess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ur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bokkstak_apple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971640" cy="5464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seen a rabbit in the y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es was in her bed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boys toys disappea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ir desks were messy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editor" descr=""/>
          <p:cNvPicPr/>
          <p:nvPr/>
        </p:nvPicPr>
        <p:blipFill>
          <a:blip r:embed="rId1"/>
          <a:stretch/>
        </p:blipFill>
        <p:spPr>
          <a:xfrm>
            <a:off x="7620120" y="5257800"/>
            <a:ext cx="8222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a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 rabbit in the y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es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we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her bed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boys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ys disappea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ir desk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re messy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help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9936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r more practice, print and complete the follow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Proofrea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Finding More Viola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crayonline" descr=""/>
          <p:cNvPicPr/>
          <p:nvPr/>
        </p:nvPicPr>
        <p:blipFill>
          <a:blip r:embed="rId3"/>
          <a:stretch/>
        </p:blipFill>
        <p:spPr>
          <a:xfrm>
            <a:off x="1143000" y="6248520"/>
            <a:ext cx="5715000" cy="171360"/>
          </a:xfrm>
          <a:prstGeom prst="rect">
            <a:avLst/>
          </a:prstGeom>
          <a:ln w="0">
            <a:noFill/>
          </a:ln>
        </p:spPr>
      </p:pic>
      <p:pic>
        <p:nvPicPr>
          <p:cNvPr id="167" name="crayonline" descr=""/>
          <p:cNvPicPr/>
          <p:nvPr/>
        </p:nvPicPr>
        <p:blipFill>
          <a:blip r:embed="rId4"/>
          <a:stretch/>
        </p:blipFill>
        <p:spPr>
          <a:xfrm>
            <a:off x="3048120" y="1447920"/>
            <a:ext cx="57150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proofreadin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ofreading a sentence means trying to find a mistake and correct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teacherangry" descr=""/>
          <p:cNvPicPr/>
          <p:nvPr/>
        </p:nvPicPr>
        <p:blipFill>
          <a:blip r:embed="rId1"/>
          <a:stretch/>
        </p:blipFill>
        <p:spPr>
          <a:xfrm>
            <a:off x="7315200" y="3581280"/>
            <a:ext cx="15318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mon Mistake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-O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udentboard" descr=""/>
          <p:cNvPicPr/>
          <p:nvPr/>
        </p:nvPicPr>
        <p:blipFill>
          <a:blip r:embed="rId1"/>
          <a:stretch/>
        </p:blipFill>
        <p:spPr>
          <a:xfrm>
            <a:off x="4038480" y="4267080"/>
            <a:ext cx="23320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marks – periods, question marks, and exclamations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s – date, words in a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s and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ation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a+kid" descr=""/>
          <p:cNvPicPr/>
          <p:nvPr/>
        </p:nvPicPr>
        <p:blipFill>
          <a:blip r:embed="rId1"/>
          <a:stretch/>
        </p:blipFill>
        <p:spPr>
          <a:xfrm>
            <a:off x="6095880" y="4267080"/>
            <a:ext cx="1565280" cy="1703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the deer in the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 delicious pizza thi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irthday is November 20 1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Smith moved to Wash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over there, said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kids3b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14300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2" name="carbrak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the deer in the distance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 delicious pizza this is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irthday is November 20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mith moved to Wash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over there,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id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studentprepared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1318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pitalization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ginning of sent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per 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it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write-icon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1063800" cy="811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gunsho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visited the Space Muse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ily smith goes to maple ridge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d you carry the fla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day,Charl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book_belt" descr=""/>
          <p:cNvPicPr/>
          <p:nvPr/>
        </p:nvPicPr>
        <p:blipFill>
          <a:blip r:embed="rId1"/>
          <a:stretch/>
        </p:blipFill>
        <p:spPr>
          <a:xfrm>
            <a:off x="7010280" y="1752480"/>
            <a:ext cx="161136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 visited the Space Muse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y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th goes to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g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read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d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Y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C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rry the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F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ay,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C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arl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deskset" descr=""/>
          <p:cNvPicPr/>
          <p:nvPr/>
        </p:nvPicPr>
        <p:blipFill>
          <a:blip r:embed="rId1"/>
          <a:stretch/>
        </p:blipFill>
        <p:spPr>
          <a:xfrm>
            <a:off x="7315200" y="5181480"/>
            <a:ext cx="1325520" cy="1121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2" name="driveb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4:32:08Z</dcterms:created>
  <dc:creator>Jefferson County Schools </dc:creator>
  <dc:description/>
  <dc:language>en-US</dc:language>
  <cp:lastModifiedBy>Jefferson County Schools </cp:lastModifiedBy>
  <dcterms:modified xsi:type="dcterms:W3CDTF">2002-02-22T18:28:07Z</dcterms:modified>
  <cp:revision>9</cp:revision>
  <dc:subject/>
  <dc:title>Let’s Proofread</dc:title>
</cp:coreProperties>
</file>