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8E6-29B3-4CB8-9E0F-EC561A39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9CF-CD16-4394-BB99-031DBBE9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DFF-7767-4A71-9A63-AD85F70F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54F-0D81-4F54-A6B7-CD0E5026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C9F-B555-4027-8F6D-120333A9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2B3-E1A8-49D3-970C-D6C2C71E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B31-F519-484B-9B64-1B607E8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57C-A894-4B3A-99E8-74F5C661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BD3-38C6-445A-B66C-D57CE29C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CFF-ACB0-4F08-ACCF-DD988E37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9ED-317E-4936-9D9B-F9755983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532-6FEF-46F1-9284-86474758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D688-10B4-4864-9BBA-02DFA5814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6.png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4.gif"/><Relationship Id="rId18" Type="http://schemas.openxmlformats.org/officeDocument/2006/relationships/image" Target="../media/image14.gif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588000" y="2852640"/>
            <a:ext cx="1511280" cy="939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1179360" cy="79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340000" y="5157720"/>
            <a:ext cx="2278080" cy="118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1844640"/>
            <a:ext cx="143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651640" y="2060640"/>
            <a:ext cx="3025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7280" y="4221000"/>
            <a:ext cx="410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 Hot!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404640"/>
            <a:ext cx="8785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66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Spice up your sentenc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66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51280" y="98100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" name="" descr="fun stuff Dancing Chili Pepper chorus line"/>
          <p:cNvPicPr/>
          <p:nvPr/>
        </p:nvPicPr>
        <p:blipFill>
          <a:blip r:embed="rId1"/>
          <a:stretch/>
        </p:blipFill>
        <p:spPr>
          <a:xfrm rot="5400000">
            <a:off x="6423840" y="3336120"/>
            <a:ext cx="4643280" cy="79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un stuff Dancing Chili Pepper chorus line"/>
          <p:cNvPicPr/>
          <p:nvPr/>
        </p:nvPicPr>
        <p:blipFill>
          <a:blip r:embed="rId2"/>
          <a:stretch/>
        </p:blipFill>
        <p:spPr>
          <a:xfrm rot="16200000">
            <a:off x="-1923120" y="3407040"/>
            <a:ext cx="4643640" cy="79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411280" y="2205000"/>
            <a:ext cx="390384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2" name="" descr="fun stuff Dancing Chili Pepper chorus line"/>
          <p:cNvPicPr/>
          <p:nvPr/>
        </p:nvPicPr>
        <p:blipFill>
          <a:blip r:embed="rId3"/>
          <a:stretch/>
        </p:blipFill>
        <p:spPr>
          <a:xfrm>
            <a:off x="0" y="6060960"/>
            <a:ext cx="4643280" cy="79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fun stuff Dancing Chili Pepper chorus line"/>
          <p:cNvPicPr/>
          <p:nvPr/>
        </p:nvPicPr>
        <p:blipFill>
          <a:blip r:embed="rId4"/>
          <a:stretch/>
        </p:blipFill>
        <p:spPr>
          <a:xfrm>
            <a:off x="4572000" y="6060960"/>
            <a:ext cx="4572000" cy="79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fun stuff Dancing Chili Pepper chorus line"/>
          <p:cNvPicPr/>
          <p:nvPr/>
        </p:nvPicPr>
        <p:blipFill>
          <a:blip r:embed="rId5"/>
          <a:stretch/>
        </p:blipFill>
        <p:spPr>
          <a:xfrm>
            <a:off x="0" y="0"/>
            <a:ext cx="4462560" cy="79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fun stuff Dancing Chili Pepper chorus line"/>
          <p:cNvPicPr/>
          <p:nvPr/>
        </p:nvPicPr>
        <p:blipFill>
          <a:blip r:embed="rId6"/>
          <a:stretch/>
        </p:blipFill>
        <p:spPr>
          <a:xfrm>
            <a:off x="4427640" y="0"/>
            <a:ext cx="4716360" cy="797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un stuff Dancing Chili Pepper chorus line"/>
          <p:cNvPicPr/>
          <p:nvPr/>
        </p:nvPicPr>
        <p:blipFill>
          <a:blip r:embed="rId7"/>
          <a:stretch/>
        </p:blipFill>
        <p:spPr>
          <a:xfrm rot="16200000">
            <a:off x="-1923120" y="2687760"/>
            <a:ext cx="4643640" cy="797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un stuff Dancing Chili Pepper chorus line"/>
          <p:cNvPicPr/>
          <p:nvPr/>
        </p:nvPicPr>
        <p:blipFill>
          <a:blip r:embed="rId8"/>
          <a:stretch/>
        </p:blipFill>
        <p:spPr>
          <a:xfrm rot="5400000">
            <a:off x="6423480" y="2688120"/>
            <a:ext cx="4643640" cy="79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673272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82692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507672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291636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82692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680400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313200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6"/>
          <a:stretch/>
        </p:blipFill>
        <p:spPr>
          <a:xfrm>
            <a:off x="5292720" y="836640"/>
            <a:ext cx="1514520" cy="914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411280" y="2205000"/>
            <a:ext cx="390384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7"/>
          <a:stretch/>
        </p:blipFill>
        <p:spPr>
          <a:xfrm>
            <a:off x="-61272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2268360" y="5373720"/>
            <a:ext cx="984600" cy="69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9"/>
          <a:stretch/>
        </p:blipFill>
        <p:spPr>
          <a:xfrm>
            <a:off x="4356000" y="5373720"/>
            <a:ext cx="984240" cy="695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0"/>
          <a:stretch/>
        </p:blipFill>
        <p:spPr>
          <a:xfrm>
            <a:off x="6372360" y="5397480"/>
            <a:ext cx="9842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745"/>
                            </p:stCondLst>
                            <p:childTnLst>
                              <p:par>
                                <p:cTn id="12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745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79640" y="1844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72" name="" descr="dancing chaos fun stuff"/>
          <p:cNvPicPr/>
          <p:nvPr/>
        </p:nvPicPr>
        <p:blipFill>
          <a:blip r:embed="rId1"/>
          <a:stretch/>
        </p:blipFill>
        <p:spPr>
          <a:xfrm rot="5400000">
            <a:off x="4426560" y="385992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dancing chaos fun stuff"/>
          <p:cNvPicPr/>
          <p:nvPr/>
        </p:nvPicPr>
        <p:blipFill>
          <a:blip r:embed="rId2"/>
          <a:stretch/>
        </p:blipFill>
        <p:spPr>
          <a:xfrm rot="16200000">
            <a:off x="-3670920" y="342756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dancing chaos fun stuff"/>
          <p:cNvPicPr/>
          <p:nvPr/>
        </p:nvPicPr>
        <p:blipFill>
          <a:blip r:embed="rId3"/>
          <a:stretch/>
        </p:blipFill>
        <p:spPr>
          <a:xfrm>
            <a:off x="-1189080" y="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dancing chaos fun stuff"/>
          <p:cNvPicPr/>
          <p:nvPr/>
        </p:nvPicPr>
        <p:blipFill>
          <a:blip r:embed="rId4"/>
          <a:stretch/>
        </p:blipFill>
        <p:spPr>
          <a:xfrm>
            <a:off x="-396720" y="581184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dancing chaos fun stuff"/>
          <p:cNvPicPr/>
          <p:nvPr/>
        </p:nvPicPr>
        <p:blipFill>
          <a:blip r:embed="rId5"/>
          <a:stretch/>
        </p:blipFill>
        <p:spPr>
          <a:xfrm>
            <a:off x="1187280" y="581184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dancing chaos fun stuff"/>
          <p:cNvPicPr/>
          <p:nvPr/>
        </p:nvPicPr>
        <p:blipFill>
          <a:blip r:embed="rId6"/>
          <a:stretch/>
        </p:blipFill>
        <p:spPr>
          <a:xfrm>
            <a:off x="1187280" y="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18728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6400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457200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70836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2843280" y="479736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205092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7020000" y="479736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6227640" y="4797360"/>
            <a:ext cx="76212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79640" y="1844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08360" y="112536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6516720" y="1052640"/>
            <a:ext cx="1514520" cy="99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 flipH="1">
            <a:off x="1042560" y="1052640"/>
            <a:ext cx="1513080" cy="99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7"/>
          <a:stretch/>
        </p:blipFill>
        <p:spPr>
          <a:xfrm>
            <a:off x="-54144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61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614"/>
                            </p:stCondLst>
                            <p:childTnLst>
                              <p:par>
                                <p:cTn id="34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614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03280" y="1844640"/>
            <a:ext cx="61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2" name="" descr="more hula animation fun stuff"/>
          <p:cNvPicPr/>
          <p:nvPr/>
        </p:nvPicPr>
        <p:blipFill>
          <a:blip r:embed="rId1"/>
          <a:stretch/>
        </p:blipFill>
        <p:spPr>
          <a:xfrm>
            <a:off x="-252360" y="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more hula animation fun stuff"/>
          <p:cNvPicPr/>
          <p:nvPr/>
        </p:nvPicPr>
        <p:blipFill>
          <a:blip r:embed="rId2"/>
          <a:stretch/>
        </p:blipFill>
        <p:spPr>
          <a:xfrm>
            <a:off x="4643280" y="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more hula animation fun stuff"/>
          <p:cNvPicPr/>
          <p:nvPr/>
        </p:nvPicPr>
        <p:blipFill>
          <a:blip r:embed="rId3"/>
          <a:stretch/>
        </p:blipFill>
        <p:spPr>
          <a:xfrm>
            <a:off x="4500720" y="602604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more hula animation fun stuff"/>
          <p:cNvPicPr/>
          <p:nvPr/>
        </p:nvPicPr>
        <p:blipFill>
          <a:blip r:embed="rId4"/>
          <a:stretch/>
        </p:blipFill>
        <p:spPr>
          <a:xfrm>
            <a:off x="-252360" y="602604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more hula animation fun stuff"/>
          <p:cNvPicPr/>
          <p:nvPr/>
        </p:nvPicPr>
        <p:blipFill>
          <a:blip r:embed="rId5"/>
          <a:stretch/>
        </p:blipFill>
        <p:spPr>
          <a:xfrm rot="5400000">
            <a:off x="6099480" y="2977200"/>
            <a:ext cx="5256360" cy="831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more hula animation fun stuff"/>
          <p:cNvPicPr/>
          <p:nvPr/>
        </p:nvPicPr>
        <p:blipFill>
          <a:blip r:embed="rId6"/>
          <a:stretch/>
        </p:blipFill>
        <p:spPr>
          <a:xfrm rot="16200000">
            <a:off x="-2247840" y="3012840"/>
            <a:ext cx="5328000" cy="831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403280" y="1844640"/>
            <a:ext cx="61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2692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29272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35600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34800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248436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161928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622764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716436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900000" y="907920"/>
            <a:ext cx="905040" cy="1533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6732720" y="907920"/>
            <a:ext cx="904680" cy="153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63640" y="907920"/>
            <a:ext cx="787320" cy="151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7380360" y="907920"/>
            <a:ext cx="7873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851280" y="98100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9"/>
          <a:stretch/>
        </p:blipFill>
        <p:spPr>
          <a:xfrm>
            <a:off x="-61272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919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191"/>
                            </p:stCondLst>
                            <p:childTnLst>
                              <p:par>
                                <p:cTn id="56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191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7:30:55Z</dcterms:created>
  <dc:creator>Sarah PC</dc:creator>
  <dc:description/>
  <dc:language>en-US</dc:language>
  <cp:lastModifiedBy>Sarah PC</cp:lastModifiedBy>
  <dcterms:modified xsi:type="dcterms:W3CDTF">2007-10-22T19:48:20Z</dcterms:modified>
  <cp:revision>3</cp:revision>
  <dc:subject/>
  <dc:title>Slide 1</dc:title>
</cp:coreProperties>
</file>