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8B7F-ABB6-48EF-B67B-D2BBFE9FB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CAE8-7B26-43B0-B2D9-11CA5E6D8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E59D-27BF-4B4E-A0CE-8C5D9AF97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9550-0EB9-43F9-B120-F5C6E1582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A013B-EEEE-4DB1-9F78-8C3483464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88C0A-C6EE-4834-9264-894288AF2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1F1BE-A08A-4F31-887F-219CB2C48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40EC7-00D6-4453-910F-2AD9F3973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EDEE9-92BF-401E-9A4E-B7ECB0452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D4529-4DBC-4391-9211-E676D34C7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D046B-BB07-4D6F-823F-7A62352E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75F4-8277-4E42-B9BE-6B6BDC9AC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94576-9C59-4AFA-86DC-0DC8F5F1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3C206-24BC-4435-9BD7-C8F98E6C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58A8C-B237-4F0D-AA25-77AEEFD18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DD34F-5533-49F5-9338-7312BEBE9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C26E7-5BA1-42E5-9C3B-08B0B1A3F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EB58-A3DD-4B73-8EA2-5B625D09E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84BE-D53F-4B4C-8961-51B0F6BB2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2BA9-6F9A-4018-A3DD-6B0F4E9AC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4739-8536-474F-BF9D-C530E02F5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ED25-9865-4B62-A005-47D95613D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6F40-4543-4DC5-881A-EDAF8E20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A97C-19EC-4B96-888C-EA476BC40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C9F95-7963-4612-AAB3-80A3CCD9549A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D7AA1-58EC-42F2-B6D5-AE55F0774527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8f8f8"/>
                </a:solidFill>
                <a:latin typeface="Comic Sans MS"/>
              </a:rPr>
              <a:t>Proofreading</a:t>
            </a:r>
            <a:endParaRPr b="0" lang="en-US" sz="80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8f8f8"/>
                </a:solidFill>
                <a:latin typeface="Comic Sans MS"/>
              </a:rPr>
              <a:t>Resource </a:t>
            </a:r>
            <a:endParaRPr b="0" lang="en-US" sz="4800" spc="-1" strike="noStrike">
              <a:solidFill>
                <a:srgbClr val="f8f8f8"/>
              </a:solidFill>
              <a:latin typeface="Comic Sans MS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8f8f8"/>
                </a:solidFill>
                <a:latin typeface="Comic Sans MS"/>
              </a:rPr>
              <a:t>Grades 3-5</a:t>
            </a:r>
            <a:endParaRPr b="0" lang="en-US" sz="4800" spc="-1" strike="noStrike">
              <a:solidFill>
                <a:srgbClr val="f8f8f8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Comic Sans MS"/>
              </a:rPr>
              <a:t>Capital Letter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Capital letters are used at the beginning of each sentence and for proper nouns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For example…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762120" y="38858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D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o you understand me?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H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e has a new 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N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intendo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M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y sister’s name is 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usanna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W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e live in 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J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efferson 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C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ity, 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T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ennessee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Comic Sans MS"/>
              </a:rPr>
              <a:t>Which part of the sentence has a capitalization error?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Comic Sans MS"/>
              </a:rPr>
              <a:t>Last night | I saw Mrs. | jones at the | school talent show.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Comic Sans MS"/>
              </a:rPr>
              <a:t>A.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Last night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Comic Sans MS"/>
              </a:rPr>
              <a:t>B.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I saw Mrs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Comic Sans MS"/>
              </a:rPr>
              <a:t>C.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jones at the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Comic Sans MS"/>
              </a:rPr>
              <a:t>D.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school talent show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140" name="chalkboard" descr=""/>
          <p:cNvPicPr/>
          <p:nvPr/>
        </p:nvPicPr>
        <p:blipFill>
          <a:blip r:embed="rId1"/>
          <a:stretch/>
        </p:blipFill>
        <p:spPr>
          <a:xfrm>
            <a:off x="5867280" y="3505320"/>
            <a:ext cx="2606760" cy="19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Comic Sans MS"/>
              </a:rPr>
              <a:t>Which part of the sentence has a capitalization error?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Comic Sans MS"/>
              </a:rPr>
              <a:t>Last night | I saw Mrs. | jones at the | school talent show.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Comic Sans MS"/>
              </a:rPr>
              <a:t>A.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8f8f8"/>
                </a:solidFill>
                <a:latin typeface="Comic Sans MS"/>
              </a:rPr>
              <a:t>Last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night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Comic Sans MS"/>
              </a:rPr>
              <a:t>B.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I saw Mrs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C.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jones at the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Comic Sans MS"/>
              </a:rPr>
              <a:t>D.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school talent show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143" name="chalkboard" descr=""/>
          <p:cNvPicPr/>
          <p:nvPr/>
        </p:nvPicPr>
        <p:blipFill>
          <a:blip r:embed="rId1"/>
          <a:stretch/>
        </p:blipFill>
        <p:spPr>
          <a:xfrm>
            <a:off x="5867280" y="3505320"/>
            <a:ext cx="2606760" cy="19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Comic Sans MS"/>
              </a:rPr>
              <a:t>Ending Punctuation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8487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6699ff"/>
                </a:solidFill>
                <a:latin typeface="Comic Sans MS"/>
              </a:rPr>
              <a:t>period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 is used at the end of a statement or command.  A </a:t>
            </a:r>
            <a:r>
              <a:rPr b="0" lang="en-US" sz="2800" spc="-1" strike="noStrike">
                <a:solidFill>
                  <a:srgbClr val="6699ff"/>
                </a:solidFill>
                <a:latin typeface="Comic Sans MS"/>
              </a:rPr>
              <a:t>question mark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 is used at the end of a question.  An </a:t>
            </a:r>
            <a:r>
              <a:rPr b="0" lang="en-US" sz="2800" spc="-1" strike="noStrike">
                <a:solidFill>
                  <a:srgbClr val="6699ff"/>
                </a:solidFill>
                <a:latin typeface="Comic Sans MS"/>
              </a:rPr>
              <a:t>exclamation point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 is used at the end of an exclamatory sentence.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For example…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762120" y="426672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Comic Sans MS"/>
              </a:rPr>
              <a:t>Please sit down</a:t>
            </a:r>
            <a:r>
              <a:rPr b="0" lang="en-US" sz="4000" spc="-1" strike="noStrike">
                <a:solidFill>
                  <a:srgbClr val="ff0066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Comic Sans MS"/>
              </a:rPr>
              <a:t>Did you hear me</a:t>
            </a:r>
            <a:r>
              <a:rPr b="0" lang="en-US" sz="4000" spc="-1" strike="noStrike">
                <a:solidFill>
                  <a:srgbClr val="ff0066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Comic Sans MS"/>
              </a:rPr>
              <a:t>I said, “Sit down</a:t>
            </a:r>
            <a:r>
              <a:rPr b="0" lang="en-US" sz="4000" spc="-1" strike="noStrike">
                <a:solidFill>
                  <a:srgbClr val="ff0066"/>
                </a:solidFill>
                <a:latin typeface="Comic Sans MS"/>
              </a:rPr>
              <a:t>!</a:t>
            </a:r>
            <a:r>
              <a:rPr b="0" lang="en-US" sz="4000" spc="-1" strike="noStrike">
                <a:solidFill>
                  <a:srgbClr val="f8f8f8"/>
                </a:solidFill>
                <a:latin typeface="Comic Sans MS"/>
              </a:rPr>
              <a:t>”</a:t>
            </a:r>
            <a:endParaRPr b="0" lang="en-US" sz="4000" spc="-1" strike="noStrike">
              <a:solidFill>
                <a:srgbClr val="f8f8f8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Comic Sans MS"/>
              </a:rPr>
              <a:t>Choose the answer that shows the best punctuation for the underlined part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520" y="23623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The girls raided the </a:t>
            </a:r>
            <a:r>
              <a:rPr b="0" lang="en-US" sz="3200" spc="-1" strike="noStrike" u="sng">
                <a:solidFill>
                  <a:srgbClr val="f8f8f8"/>
                </a:solidFill>
                <a:uFillTx/>
                <a:latin typeface="Comic Sans MS"/>
              </a:rPr>
              <a:t>kitchen they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were hungry after the long training run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Comic Sans MS"/>
              </a:rPr>
              <a:t>A.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kitchen they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Comic Sans MS"/>
              </a:rPr>
              <a:t>B.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kitchen.  They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Comic Sans MS"/>
              </a:rPr>
              <a:t>C.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kitchen, they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Comic Sans MS"/>
              </a:rPr>
              <a:t>D.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kitchen; They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149" name="runners1" descr=""/>
          <p:cNvPicPr/>
          <p:nvPr/>
        </p:nvPicPr>
        <p:blipFill>
          <a:blip r:embed="rId1"/>
          <a:stretch/>
        </p:blipFill>
        <p:spPr>
          <a:xfrm>
            <a:off x="6095880" y="4191120"/>
            <a:ext cx="1943280" cy="135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Comic Sans MS"/>
              </a:rPr>
              <a:t>Choose the answer that shows the best punctuation for the underlined part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520" y="21333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The girls raided the </a:t>
            </a:r>
            <a:r>
              <a:rPr b="0" lang="en-US" sz="3200" spc="-1" strike="noStrike" u="sng">
                <a:solidFill>
                  <a:srgbClr val="f8f8f8"/>
                </a:solidFill>
                <a:uFillTx/>
                <a:latin typeface="Comic Sans MS"/>
              </a:rPr>
              <a:t>kitchen they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were hungry after the long training run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Comic Sans MS"/>
              </a:rPr>
              <a:t>A.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kitchen they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B.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kitchen.  They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Comic Sans MS"/>
              </a:rPr>
              <a:t>C.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kitchen, they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Comic Sans MS"/>
              </a:rPr>
              <a:t>D.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kitchen; They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152" name="runners1" descr=""/>
          <p:cNvPicPr/>
          <p:nvPr/>
        </p:nvPicPr>
        <p:blipFill>
          <a:blip r:embed="rId1"/>
          <a:stretch/>
        </p:blipFill>
        <p:spPr>
          <a:xfrm>
            <a:off x="5791320" y="4114800"/>
            <a:ext cx="262872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Comic Sans MS"/>
              </a:rPr>
              <a:t>Proofreading Results!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When you have checked for 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A topic sentence,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complete sentences,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correct capitalization, and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correct punctuation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there should be a well written paragraph!!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155" name="happyexclaim" descr=""/>
          <p:cNvPicPr/>
          <p:nvPr/>
        </p:nvPicPr>
        <p:blipFill>
          <a:blip r:embed="rId1"/>
          <a:stretch/>
        </p:blipFill>
        <p:spPr>
          <a:xfrm>
            <a:off x="7010280" y="2057400"/>
            <a:ext cx="136224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Comic Sans MS"/>
              </a:rPr>
              <a:t>What is proofreading?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2362320"/>
            <a:ext cx="54104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100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99ff"/>
                </a:solidFill>
                <a:latin typeface="Comic Sans MS"/>
              </a:rPr>
              <a:t>Proofreading </a:t>
            </a:r>
            <a:r>
              <a:rPr b="0" lang="en-US" sz="4400" spc="-1" strike="noStrike">
                <a:solidFill>
                  <a:srgbClr val="f8f8f8"/>
                </a:solidFill>
                <a:latin typeface="Comic Sans MS"/>
              </a:rPr>
              <a:t>is what we call it when we read and correct something that has been written.</a:t>
            </a:r>
            <a:endParaRPr b="0" lang="en-US" sz="44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113" name="writing" descr=""/>
          <p:cNvPicPr/>
          <p:nvPr/>
        </p:nvPicPr>
        <p:blipFill>
          <a:blip r:embed="rId1"/>
          <a:stretch/>
        </p:blipFill>
        <p:spPr>
          <a:xfrm>
            <a:off x="6095880" y="2666880"/>
            <a:ext cx="2239920" cy="30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Comic Sans MS"/>
              </a:rPr>
              <a:t>Things we look for…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We check to see if we have a </a:t>
            </a:r>
            <a:r>
              <a:rPr b="0" lang="en-US" sz="3200" spc="-1" strike="noStrike">
                <a:solidFill>
                  <a:srgbClr val="6699ff"/>
                </a:solidFill>
                <a:latin typeface="Comic Sans MS"/>
              </a:rPr>
              <a:t>topic sentence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We check to see if we have written </a:t>
            </a:r>
            <a:r>
              <a:rPr b="0" lang="en-US" sz="3200" spc="-1" strike="noStrike">
                <a:solidFill>
                  <a:srgbClr val="6699ff"/>
                </a:solidFill>
                <a:latin typeface="Comic Sans MS"/>
              </a:rPr>
              <a:t>complete sentence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that make sense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We check to see if we have </a:t>
            </a:r>
            <a:r>
              <a:rPr b="0" lang="en-US" sz="3200" spc="-1" strike="noStrike">
                <a:solidFill>
                  <a:srgbClr val="6699ff"/>
                </a:solidFill>
                <a:latin typeface="Comic Sans MS"/>
              </a:rPr>
              <a:t>capital letter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in the right places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We check to see if our sentences have </a:t>
            </a:r>
            <a:r>
              <a:rPr b="0" lang="en-US" sz="3200" spc="-1" strike="noStrike">
                <a:solidFill>
                  <a:srgbClr val="6699ff"/>
                </a:solidFill>
                <a:latin typeface="Comic Sans MS"/>
              </a:rPr>
              <a:t>correct punctuation mark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at the end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Comic Sans MS"/>
              </a:rPr>
              <a:t>Topic Sentenc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The </a:t>
            </a:r>
            <a:r>
              <a:rPr b="0" lang="en-US" sz="3200" spc="-1" strike="noStrike">
                <a:solidFill>
                  <a:srgbClr val="6699ff"/>
                </a:solidFill>
                <a:latin typeface="Comic Sans MS"/>
              </a:rPr>
              <a:t>topic sentence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of a paragraph states the main idea and attracts the reader's interest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For example…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914040" y="4114800"/>
            <a:ext cx="7543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I like zebras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Don’t eat pizza!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My name is Brian Jones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119" name="boy5" descr=""/>
          <p:cNvPicPr/>
          <p:nvPr/>
        </p:nvPicPr>
        <p:blipFill>
          <a:blip r:embed="rId1"/>
          <a:stretch/>
        </p:blipFill>
        <p:spPr>
          <a:xfrm>
            <a:off x="5181480" y="3505320"/>
            <a:ext cx="2743200" cy="141912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Comic Sans MS"/>
              </a:rPr>
              <a:t>Choose the topic sentence that best fits the paragraph.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________________________  I am nine years old and am in the third grade.  I like chocolate ice cream and swimming in the lake.  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A. I am a soccer player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B. My name is Matthew Magee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C. How old are you?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122" name="boy1x" descr=""/>
          <p:cNvPicPr/>
          <p:nvPr/>
        </p:nvPicPr>
        <p:blipFill>
          <a:blip r:embed="rId1"/>
          <a:stretch/>
        </p:blipFill>
        <p:spPr>
          <a:xfrm>
            <a:off x="7543800" y="3809880"/>
            <a:ext cx="80028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Comic Sans MS"/>
              </a:rPr>
              <a:t>Choose the topic sentence that best fits the paragraph.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3059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________________________  I am nine years old and am in the third grade.  I like chocolate ice cream and swimming in the lake.  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A. I am a soccer player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Comic Sans MS"/>
              </a:rPr>
              <a:t>B. My name is Matthew Magee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C. How old are you?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125" name="boy1x" descr=""/>
          <p:cNvPicPr/>
          <p:nvPr/>
        </p:nvPicPr>
        <p:blipFill>
          <a:blip r:embed="rId1"/>
          <a:stretch/>
        </p:blipFill>
        <p:spPr>
          <a:xfrm>
            <a:off x="7543800" y="3809880"/>
            <a:ext cx="80028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Comic Sans MS"/>
              </a:rPr>
              <a:t>Complete sentence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848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A </a:t>
            </a:r>
            <a:r>
              <a:rPr b="0" lang="en-US" sz="3200" spc="-1" strike="noStrike">
                <a:solidFill>
                  <a:srgbClr val="6699ff"/>
                </a:solidFill>
                <a:latin typeface="Comic Sans MS"/>
              </a:rPr>
              <a:t>complete sentence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is a group of words that expresses a complete thought (and has a subject and a verb)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For example…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09480" y="4419360"/>
            <a:ext cx="78487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I have two new friends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That boy needs a new pair of shoes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What is your favorite thing to eat?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Comic Sans MS"/>
              </a:rPr>
              <a:t>Choose the answer that is written correctly.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2" marL="1119960" indent="-223920">
              <a:spcBef>
                <a:spcPts val="901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Comic Sans MS"/>
              </a:rPr>
              <a:t>A.</a:t>
            </a:r>
            <a:r>
              <a:rPr b="0" lang="en-US" sz="36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8f8f8"/>
                </a:solidFill>
                <a:latin typeface="Comic Sans MS"/>
              </a:rPr>
              <a:t>While he worked on the computer.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  <a:p>
            <a:pPr lvl="2" marL="1119960" indent="-223920">
              <a:spcBef>
                <a:spcPts val="901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Comic Sans MS"/>
              </a:rPr>
              <a:t>B.</a:t>
            </a:r>
            <a:r>
              <a:rPr b="0" lang="en-US" sz="36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8f8f8"/>
                </a:solidFill>
                <a:latin typeface="Comic Sans MS"/>
              </a:rPr>
              <a:t>On the computer Eric spends his time he likes to play.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  <a:p>
            <a:pPr lvl="2" marL="1119960" indent="-223920">
              <a:spcBef>
                <a:spcPts val="901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Comic Sans MS"/>
              </a:rPr>
              <a:t>C.</a:t>
            </a:r>
            <a:r>
              <a:rPr b="0" lang="en-US" sz="36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8f8f8"/>
                </a:solidFill>
                <a:latin typeface="Comic Sans MS"/>
              </a:rPr>
              <a:t>Eric spends his spare time playing on the computer.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  <a:p>
            <a:pPr lvl="2" marL="1119960" indent="-223920">
              <a:spcBef>
                <a:spcPts val="901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Comic Sans MS"/>
              </a:rPr>
              <a:t>D.</a:t>
            </a:r>
            <a:r>
              <a:rPr b="0" lang="en-US" sz="36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8f8f8"/>
                </a:solidFill>
                <a:latin typeface="Comic Sans MS"/>
              </a:rPr>
              <a:t>As</a:t>
            </a:r>
            <a:r>
              <a:rPr b="0" lang="en-US" sz="3600" spc="-1" strike="noStrike">
                <a:solidFill>
                  <a:srgbClr val="f8f8f8"/>
                </a:solidFill>
                <a:latin typeface="Comic Sans MS"/>
              </a:rPr>
              <a:t> Eric spent his vacation.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131" name="cmptr1x" descr=""/>
          <p:cNvPicPr/>
          <p:nvPr/>
        </p:nvPicPr>
        <p:blipFill>
          <a:blip r:embed="rId1"/>
          <a:stretch/>
        </p:blipFill>
        <p:spPr>
          <a:xfrm>
            <a:off x="6553080" y="533520"/>
            <a:ext cx="236232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Comic Sans MS"/>
              </a:rPr>
              <a:t>Choose the answer that is written correctly.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-360" y="18284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901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Comic Sans MS"/>
              </a:rPr>
              <a:t>A.</a:t>
            </a:r>
            <a:r>
              <a:rPr b="0" lang="en-US" sz="36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8f8f8"/>
                </a:solidFill>
                <a:latin typeface="Comic Sans MS"/>
              </a:rPr>
              <a:t>While he worked on the computer.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  <a:p>
            <a:pPr lvl="2" marL="1143000" indent="-228600">
              <a:spcBef>
                <a:spcPts val="901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Comic Sans MS"/>
              </a:rPr>
              <a:t>B.</a:t>
            </a:r>
            <a:r>
              <a:rPr b="0" lang="en-US" sz="36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8f8f8"/>
                </a:solidFill>
                <a:latin typeface="Comic Sans MS"/>
              </a:rPr>
              <a:t>On the computer Eric spends his time he likes to play.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  <a:p>
            <a:pPr lvl="2" marL="1143000" indent="-228600">
              <a:spcBef>
                <a:spcPts val="901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Comic Sans MS"/>
              </a:rPr>
              <a:t>C.</a:t>
            </a:r>
            <a:r>
              <a:rPr b="0" lang="en-US" sz="36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9933ff"/>
                </a:solidFill>
                <a:latin typeface="Comic Sans MS"/>
              </a:rPr>
              <a:t>Eric spends his spare time playing on the computer.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  <a:p>
            <a:pPr lvl="2" marL="1143000" indent="-228600">
              <a:spcBef>
                <a:spcPts val="901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Comic Sans MS"/>
              </a:rPr>
              <a:t>D.</a:t>
            </a:r>
            <a:r>
              <a:rPr b="0" lang="en-US" sz="36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8f8f8"/>
                </a:solidFill>
                <a:latin typeface="Comic Sans MS"/>
              </a:rPr>
              <a:t>As</a:t>
            </a:r>
            <a:r>
              <a:rPr b="0" lang="en-US" sz="3600" spc="-1" strike="noStrike">
                <a:solidFill>
                  <a:srgbClr val="f8f8f8"/>
                </a:solidFill>
                <a:latin typeface="Comic Sans MS"/>
              </a:rPr>
              <a:t> Eric spent his vacation.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134" name="cmptr1x" descr=""/>
          <p:cNvPicPr/>
          <p:nvPr/>
        </p:nvPicPr>
        <p:blipFill>
          <a:blip r:embed="rId1"/>
          <a:stretch/>
        </p:blipFill>
        <p:spPr>
          <a:xfrm>
            <a:off x="6400800" y="380880"/>
            <a:ext cx="251460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6T15:29:16Z</dcterms:created>
  <dc:creator>Jefferson County Schools Jeff</dc:creator>
  <dc:description/>
  <dc:language>en-US</dc:language>
  <cp:lastModifiedBy>Jefferson County Schools Jeff</cp:lastModifiedBy>
  <dcterms:modified xsi:type="dcterms:W3CDTF">2002-02-26T19:17:30Z</dcterms:modified>
  <cp:revision>6</cp:revision>
  <dc:subject/>
  <dc:title>What Possessed You?</dc:title>
</cp:coreProperties>
</file>