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73A-AE48-49FB-94B3-CC4622F1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93A-D8E5-46B2-A5F0-A9D8228D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5C7-F8F9-487F-B541-0037CA4C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AD4-B382-48DE-BB39-C6076304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A1BC-0346-48D8-98DE-AF971A80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6946-DD6F-44DF-88DE-55FF0D39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021C-DD05-42EF-A4AF-1BB437E9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DE31-021C-43A6-937B-23F7D233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3E7B-6D65-4F40-B8BF-990C554F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A390-A7B9-44D8-B123-20891C57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85B5-3306-475E-BA79-85B9BB0B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2FF-2C43-47AD-98E2-4FF85536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81DB-81F7-4568-A225-73300E7A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34CC-B2D0-4CF1-BDCE-7D654C76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6DF4-1333-4EE5-B987-4709B12F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B7E1-0810-46FC-A933-7C59AE41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03DB-DA01-4409-830D-790E3407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480-A568-4988-925D-DFF7173B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576-6461-416F-B9CF-7F8E8B61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589-22C2-44A7-8C4A-D42EB8BA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963-F3C3-4613-A535-37D633BD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4D0-9AED-4CD5-A0B5-AE1809F1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80A-A99F-4979-B039-7017D486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EA0-9425-414D-90C2-C13DE65F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BC26-B503-4FF8-BB5A-D4066F7902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AB0E-945D-4B14-BF56-24559166BB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cc66"/>
                </a:solidFill>
                <a:latin typeface="Times New Roman"/>
              </a:rPr>
              <a:t>Mechanics Mania</a:t>
            </a:r>
            <a:endParaRPr b="0" i="1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de 4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olumbus 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columbussail" descr=""/>
          <p:cNvPicPr/>
          <p:nvPr/>
        </p:nvPicPr>
        <p:blipFill>
          <a:blip r:embed="rId1"/>
          <a:stretch/>
        </p:blipFill>
        <p:spPr>
          <a:xfrm>
            <a:off x="7162920" y="3962520"/>
            <a:ext cx="14382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Open your folder, take out your homework,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C. Open your folder, take out your homework, and pass it forwa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bookbig" descr=""/>
          <p:cNvPicPr/>
          <p:nvPr/>
        </p:nvPicPr>
        <p:blipFill>
          <a:blip r:embed="rId1"/>
          <a:stretch/>
        </p:blipFill>
        <p:spPr>
          <a:xfrm>
            <a:off x="6553080" y="594360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following items will be required at camp: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B. The following items will be required at camp: sleeping bag, tent, hiking shoes, and comp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not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A.The title of the book is The Wipple Myste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The title of the book is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bookturn3" descr=""/>
          <p:cNvPicPr/>
          <p:nvPr/>
        </p:nvPicPr>
        <p:blipFill>
          <a:blip r:embed="rId1"/>
          <a:stretch/>
        </p:blipFill>
        <p:spPr>
          <a:xfrm>
            <a:off x="7543800" y="3352680"/>
            <a:ext cx="1295280" cy="9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Proofreading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roofreading involves applying an understanding of punctuation and capitalization rules to review written work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T’S ALL FOLKS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An interesting way to improve proofreading skills for punctuation and capitalization is to develop sentences with punctuation and capitalization errors.  </a:t>
            </a:r>
            <a:br>
              <a:rPr sz="2800"/>
            </a:b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The following is an example: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o punctuation or capitalization: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 bacon and juice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unctuation and capitalization: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, bacon, and juice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eggs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3716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. We watch fireworks on the Fourth of July</a:t>
            </a: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firewrkx" descr=""/>
          <p:cNvPicPr/>
          <p:nvPr/>
        </p:nvPicPr>
        <p:blipFill>
          <a:blip r:embed="rId1"/>
          <a:stretch/>
        </p:blipFill>
        <p:spPr>
          <a:xfrm>
            <a:off x="7696080" y="518148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B. Jorge recently moved here from South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mer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D.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5:49Z</dcterms:created>
  <dc:creator>Jefferson County Schools</dc:creator>
  <dc:description/>
  <dc:language>en-US</dc:language>
  <cp:lastModifiedBy>Jefferson County Schools</cp:lastModifiedBy>
  <dcterms:modified xsi:type="dcterms:W3CDTF">2002-02-26T19:11:11Z</dcterms:modified>
  <cp:revision>15</cp:revision>
  <dc:subject/>
  <dc:title>Mechanics Mania</dc:title>
</cp:coreProperties>
</file>