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EA6-5D50-4D37-82BB-5A1A7D79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D87-C701-469E-95E5-CC3371E4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C34-21A3-4420-A96C-58BA29B7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68F-597C-4E11-974E-E64052CE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BD14-2F52-4582-8D8A-3C88FC5A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5C9D-27BA-403D-8E15-DF0C65BD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EC1D-E643-41D6-BBC6-9BDF2D04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8456-821C-48B9-AE90-E6D8C2AA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A60C-92BA-4E2F-AD58-538FA448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1EC4-06D0-402A-A20B-45F38C41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BD7D-D199-42E2-95C9-31065B0A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03E-7F45-41DB-8662-111F73BD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26C6-FC5A-4937-8858-18269E2E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2111-7E49-4265-AF1D-FB2D0C56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3EED-DB83-477A-8593-0340B6CD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FB9B-DE5C-4E41-AB8A-E362E1B9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D901-77FF-487F-A491-806EE0DB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B728-F4B4-4CC0-8A64-CF1C360E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C28-61C6-4269-B6E1-77EEB3C2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B5FB-23FE-46F9-B34D-FF719F7E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C460-7C08-4C55-8E11-A1FB73E8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1B22-C606-4D17-87A1-97866A69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169-1DD6-43E4-BA0E-3EDB71F7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8C96-77F9-4FC5-B1D4-9685276B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24DC-0C0A-4472-8C2E-3EA11B0DEE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02C9-9B81-4B2B-AFCA-809CD7B147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cc66"/>
                </a:solidFill>
                <a:latin typeface="Times New Roman"/>
              </a:rPr>
              <a:t>Mechanics Mania</a:t>
            </a:r>
            <a:endParaRPr b="0" i="1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Grade 4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br>
              <a:rPr sz="32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e school is closed on ________________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e school is closed on ________________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A.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Columbus 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columbussail" descr=""/>
          <p:cNvPicPr/>
          <p:nvPr/>
        </p:nvPicPr>
        <p:blipFill>
          <a:blip r:embed="rId1"/>
          <a:stretch/>
        </p:blipFill>
        <p:spPr>
          <a:xfrm>
            <a:off x="7162920" y="3962520"/>
            <a:ext cx="14382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Open your folder,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Open your folder; take out your homework;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Open your folder, take out your homework,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Open your folder: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Open your folder,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Open your folder; take out your homework;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C. Open your folder, take out your homework, and pass it forwar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Open your folder: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bookbig" descr=""/>
          <p:cNvPicPr/>
          <p:nvPr/>
        </p:nvPicPr>
        <p:blipFill>
          <a:blip r:embed="rId1"/>
          <a:stretch/>
        </p:blipFill>
        <p:spPr>
          <a:xfrm>
            <a:off x="6553080" y="5943600"/>
            <a:ext cx="1524240" cy="68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 store will open on _______________________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 store will open on _______________________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A.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May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The following items will be required at camp- sleeping bag, 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The following items will be required at camp: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The following items will be required at camp,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The following items will be required at camp;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The following items will be required at camp- sleeping bag, 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B. The following items will be required at camp: sleeping bag, tent, hiking shoes, and compa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The following items will be required at camp,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The following items will be required at camp;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sentence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capitalizatio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errors?</a:t>
            </a:r>
            <a:br>
              <a:rPr sz="20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title of the book i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Title of the Book i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title of the book i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he title of the book is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sentence does not contain capitalizatio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errors?</a:t>
            </a:r>
            <a:br>
              <a:rPr sz="2000"/>
            </a:br>
            <a:br>
              <a:rPr sz="20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A.The title of the book is The Wipple Myster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The Title of the Book is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The title of the book is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 The title of the book is 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bookturn3" descr=""/>
          <p:cNvPicPr/>
          <p:nvPr/>
        </p:nvPicPr>
        <p:blipFill>
          <a:blip r:embed="rId1"/>
          <a:stretch/>
        </p:blipFill>
        <p:spPr>
          <a:xfrm>
            <a:off x="7543800" y="3352680"/>
            <a:ext cx="1295280" cy="990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Times New Roman"/>
              </a:rPr>
              <a:t>Proofreading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Proofreading involves applying an understanding of punctuation and capitalization rules to review written works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AT’S ALL FOLKS!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An interesting way to improve proofreading skills for punctuation and capitalization is to develop sentences with punctuation and capitalization errors.  </a:t>
            </a:r>
            <a:br>
              <a:rPr sz="2800"/>
            </a:b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The following is an example:</a:t>
            </a:r>
            <a:br>
              <a:rPr sz="32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3429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No punctuation or capitalization: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 bought eggs bacon and juice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unctuation and capitalization:   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 bought eggs, bacon, and juice.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8" name="eggs" descr=""/>
          <p:cNvPicPr/>
          <p:nvPr/>
        </p:nvPicPr>
        <p:blipFill>
          <a:blip r:embed="rId1"/>
          <a:stretch/>
        </p:blipFill>
        <p:spPr>
          <a:xfrm>
            <a:off x="7391520" y="4572000"/>
            <a:ext cx="1371600" cy="857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?</a:t>
            </a:r>
            <a:br>
              <a:rPr sz="3600"/>
            </a:b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 We watch fireworks on the Fourth of july.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 We watch fireworks on the fourth of ju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 We watch fireworks on the Fourth of Ju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 We watch Fireworks on the fourth of Jul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?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We watch fireworks on the Fourth of july.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. We watch fireworks on the fourth of ju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C. We watch fireworks on the Fourth of July</a:t>
            </a: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. We watch Fireworks on the fourth of July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firewrkx" descr=""/>
          <p:cNvPicPr/>
          <p:nvPr/>
        </p:nvPicPr>
        <p:blipFill>
          <a:blip r:embed="rId1"/>
          <a:stretch/>
        </p:blipFill>
        <p:spPr>
          <a:xfrm>
            <a:off x="7696080" y="5181480"/>
            <a:ext cx="14479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B. Jorge recently moved here from South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Americ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contains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New York is a big c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ohn Steinbeck is a well-known auth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army consisted of over a thousand soldi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Marisol likes to have relatives visit during the Holiday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contains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New York is a big c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ohn Steinbeck is a well-known auth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army consisted of over a thousand soldi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D. Marisol likes to have relatives visit during the Holiday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25:49Z</dcterms:created>
  <dc:creator>Jefferson County Schools</dc:creator>
  <dc:description/>
  <dc:language>en-US</dc:language>
  <cp:lastModifiedBy>Jefferson County Schools</cp:lastModifiedBy>
  <dcterms:modified xsi:type="dcterms:W3CDTF">2002-02-26T19:11:11Z</dcterms:modified>
  <cp:revision>15</cp:revision>
  <dc:subject/>
  <dc:title>Mechanics Mania</dc:title>
</cp:coreProperties>
</file>