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6.png" ContentType="image/png"/>
  <Override PartName="/ppt/media/carbrake.wav" ContentType="audio/x-wav"/>
  <Override PartName="/ppt/media/image8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10.png" ContentType="image/png"/>
  <Override PartName="/ppt/media/image5.png" ContentType="image/png"/>
  <Override PartName="/ppt/media/driveby.wav" ContentType="audio/x-wav"/>
  <Override PartName="/ppt/media/image2.png" ContentType="image/png"/>
  <Override PartName="/ppt/media/image1.gif" ContentType="image/gif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0C8-AD18-4D3E-8449-D3A8B5AD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89D-6C32-4367-898E-B2AFB77B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0BD-3993-42C6-8156-EC431E2E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1C8-C484-482B-B995-739877B5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96C7-E877-461F-BDCF-8E421461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42C-A2A5-496E-BF6D-641130C8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1BE0-FBEB-4E2E-84DE-5A13D797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AE03-D06D-4DDA-96A5-A4459B4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FC8A-9ADF-4D75-BF9B-ADCEDD4D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2FD6-3DED-48F4-9E4A-D572B03D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2455-6664-4D77-9F17-0D7CD5AB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06C-619C-4444-B79C-F3019FB7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1522-C558-4872-91CA-C4469F50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667C-EA3E-4F43-A7EA-6A68E745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240-FBD4-4135-BC18-A839DED5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4951-CAE4-4D97-AD85-67BDAE67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87BF-1E0C-4A15-9B22-A2855589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2CF-F071-4B6E-83BA-AE4E4315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DEC-6679-4685-8455-4B16B9BE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0AE-400A-48AC-9154-1969484D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003-B80A-4D4A-AD26-288917B6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65A-1A67-48E8-9948-41A96091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75B-F7F9-475F-A718-71159C8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8BB-0294-4732-B08B-8892F002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CF58-0CD5-445F-B3D4-D0CC77C5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2F15-4D60-4818-9DC8-8A33E823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hlschool.com/eng4n17.htm" TargetMode="External"/><Relationship Id="rId2" Type="http://schemas.openxmlformats.org/officeDocument/2006/relationships/hyperlink" Target="http://www.rhlschool.com/eng4n9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Let’s Proofrea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ncilsanim" descr=""/>
          <p:cNvPicPr/>
          <p:nvPr/>
        </p:nvPicPr>
        <p:blipFill>
          <a:blip r:embed="rId1"/>
          <a:stretch/>
        </p:blipFill>
        <p:spPr>
          <a:xfrm>
            <a:off x="7086600" y="3733920"/>
            <a:ext cx="148608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d Us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erb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bject-Verb Agre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ur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okkstak_apple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971640" cy="546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een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was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boys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s 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editor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822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a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boys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help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9936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more practice, print and complete the follow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Proof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Finding More Viol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rayonline" descr=""/>
          <p:cNvPicPr/>
          <p:nvPr/>
        </p:nvPicPr>
        <p:blipFill>
          <a:blip r:embed="rId3"/>
          <a:stretch/>
        </p:blipFill>
        <p:spPr>
          <a:xfrm>
            <a:off x="1143000" y="6248520"/>
            <a:ext cx="5715000" cy="171360"/>
          </a:xfrm>
          <a:prstGeom prst="rect">
            <a:avLst/>
          </a:prstGeom>
          <a:ln w="0">
            <a:noFill/>
          </a:ln>
        </p:spPr>
      </p:pic>
      <p:pic>
        <p:nvPicPr>
          <p:cNvPr id="167" name="crayonline" descr=""/>
          <p:cNvPicPr/>
          <p:nvPr/>
        </p:nvPicPr>
        <p:blipFill>
          <a:blip r:embed="rId4"/>
          <a:stretch/>
        </p:blipFill>
        <p:spPr>
          <a:xfrm>
            <a:off x="3048120" y="1447920"/>
            <a:ext cx="57150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proofread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ofreading a sentence means trying to find a mistake and correc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acherangry" descr=""/>
          <p:cNvPicPr/>
          <p:nvPr/>
        </p:nvPicPr>
        <p:blipFill>
          <a:blip r:embed="rId1"/>
          <a:stretch/>
        </p:blipFill>
        <p:spPr>
          <a:xfrm>
            <a:off x="7315200" y="3581280"/>
            <a:ext cx="15318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on Mistak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O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udentboard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2332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marks – periods, question marks, and exclamations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 – date, words in a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a+kid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156528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kids3b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14300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rbrak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tudentprepared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pitalizatio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ginning of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rite-icon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1063800" cy="81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ily smith goes to maple ridge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d you carry the f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,C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ook_belt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6113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y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h goes to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g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Y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rry the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F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ay,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deskset" descr=""/>
          <p:cNvPicPr/>
          <p:nvPr/>
        </p:nvPicPr>
        <p:blipFill>
          <a:blip r:embed="rId1"/>
          <a:stretch/>
        </p:blipFill>
        <p:spPr>
          <a:xfrm>
            <a:off x="7315200" y="5181480"/>
            <a:ext cx="1325520" cy="1121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driveb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32:08Z</dcterms:created>
  <dc:creator>Jefferson County Schools </dc:creator>
  <dc:description/>
  <dc:language>en-US</dc:language>
  <cp:lastModifiedBy>Jefferson County Schools </cp:lastModifiedBy>
  <dcterms:modified xsi:type="dcterms:W3CDTF">2002-02-22T18:28:07Z</dcterms:modified>
  <cp:revision>9</cp:revision>
  <dc:subject/>
  <dc:title>Let’s Proofread</dc:title>
</cp:coreProperties>
</file>