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6.png" ContentType="image/png"/>
  <Override PartName="/ppt/media/carbrake.wav" ContentType="audio/x-wav"/>
  <Override PartName="/ppt/media/image8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camera.wav" ContentType="audio/x-wav"/>
  <Override PartName="/ppt/media/image10.png" ContentType="image/png"/>
  <Override PartName="/ppt/media/image5.png" ContentType="image/png"/>
  <Override PartName="/ppt/media/driveby.wav" ContentType="audio/x-wav"/>
  <Override PartName="/ppt/media/image2.png" ContentType="image/png"/>
  <Override PartName="/ppt/media/image1.gif" ContentType="image/gif"/>
  <Override PartName="/ppt/media/image4.png" ContentType="image/png"/>
  <Override PartName="/ppt/media/chimes.wav" ContentType="audio/x-wav"/>
  <Override PartName="/ppt/media/clap.wav" ContentType="audio/x-wav"/>
  <Override PartName="/ppt/media/gunshot.wav" ContentType="audio/x-wav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5801-A49D-4904-8462-514F7354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95E-C844-4AAC-A694-2A60FAD1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2FA-1F5D-4965-883A-A547EFB7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8D3-9817-43DC-942D-37DEB867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A8BA-020D-4467-AC2F-81071AE3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320C-171A-4951-B3C2-F7A140AD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9FB5-C91F-4F84-8979-69546DDC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0E91-974E-4081-9324-26472052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B64B-BE0B-4622-97C0-687790BB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320E-1055-4A9D-BBD4-305341C3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428B-FBCD-48C5-85BE-6E599A92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633-77D5-4536-86CE-3E7AE332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6087-260C-4EBD-9EFC-73BDF682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425E-0607-4EE4-A124-41239820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76F1-F14E-4AFA-8531-BE134BA9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2BA8-B8EE-45AD-9D08-93864C2A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F659-6B16-4881-8F0C-51D48D7A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2A2-2F9D-470F-8C5A-4129E7EB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87A-1814-4480-93F5-AB7EFBF3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EC0-EFC0-4543-BB69-8DE62059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0B7-1CD0-4F3D-A331-6AFD1961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07B-9552-43F4-82E1-580A990C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D06-658F-4B74-9A33-25E05D32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288-4477-4ECA-8DC8-4AD6A3CD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CCF1-3B01-4233-A395-3FA35555C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5C01-4469-4555-ABE6-38536C1B6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hlschool.com/eng4n17.htm" TargetMode="External"/><Relationship Id="rId2" Type="http://schemas.openxmlformats.org/officeDocument/2006/relationships/hyperlink" Target="http://www.rhlschool.com/eng4n9.htm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Let’s Proofread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d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encilsanim" descr=""/>
          <p:cNvPicPr/>
          <p:nvPr/>
        </p:nvPicPr>
        <p:blipFill>
          <a:blip r:embed="rId1"/>
          <a:stretch/>
        </p:blipFill>
        <p:spPr>
          <a:xfrm>
            <a:off x="7086600" y="3733920"/>
            <a:ext cx="1486080" cy="28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ord Usa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erb Ten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ubject-Verb Agre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ssess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lur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bokkstak_apple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971640" cy="5464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seen a rabbit in the ya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es was in her bed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boys toys disappea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ir desks were messy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editor" descr=""/>
          <p:cNvPicPr/>
          <p:nvPr/>
        </p:nvPicPr>
        <p:blipFill>
          <a:blip r:embed="rId1"/>
          <a:stretch/>
        </p:blipFill>
        <p:spPr>
          <a:xfrm>
            <a:off x="7620120" y="5257800"/>
            <a:ext cx="8222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a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 rabbit in the ya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es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we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her bed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boys’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ys disappea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ir desk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re messy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help" descr=""/>
          <p:cNvPicPr/>
          <p:nvPr/>
        </p:nvPicPr>
        <p:blipFill>
          <a:blip r:embed="rId1"/>
          <a:stretch/>
        </p:blipFill>
        <p:spPr>
          <a:xfrm>
            <a:off x="7315200" y="5257800"/>
            <a:ext cx="9936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did you do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r more practice, print and complete the follow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Proofrea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Finding More Violat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crayonline" descr=""/>
          <p:cNvPicPr/>
          <p:nvPr/>
        </p:nvPicPr>
        <p:blipFill>
          <a:blip r:embed="rId3"/>
          <a:stretch/>
        </p:blipFill>
        <p:spPr>
          <a:xfrm>
            <a:off x="1143000" y="6248520"/>
            <a:ext cx="5715000" cy="171360"/>
          </a:xfrm>
          <a:prstGeom prst="rect">
            <a:avLst/>
          </a:prstGeom>
          <a:ln w="0">
            <a:noFill/>
          </a:ln>
        </p:spPr>
      </p:pic>
      <p:pic>
        <p:nvPicPr>
          <p:cNvPr id="167" name="crayonline" descr=""/>
          <p:cNvPicPr/>
          <p:nvPr/>
        </p:nvPicPr>
        <p:blipFill>
          <a:blip r:embed="rId4"/>
          <a:stretch/>
        </p:blipFill>
        <p:spPr>
          <a:xfrm>
            <a:off x="3048120" y="1447920"/>
            <a:ext cx="57150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proofreadin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ofreading a sentence means trying to find a mistake and correct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teacherangry" descr=""/>
          <p:cNvPicPr/>
          <p:nvPr/>
        </p:nvPicPr>
        <p:blipFill>
          <a:blip r:embed="rId1"/>
          <a:stretch/>
        </p:blipFill>
        <p:spPr>
          <a:xfrm>
            <a:off x="7315200" y="3581280"/>
            <a:ext cx="15318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mon Mistake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-O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tudentboard" descr=""/>
          <p:cNvPicPr/>
          <p:nvPr/>
        </p:nvPicPr>
        <p:blipFill>
          <a:blip r:embed="rId1"/>
          <a:stretch/>
        </p:blipFill>
        <p:spPr>
          <a:xfrm>
            <a:off x="4038480" y="4267080"/>
            <a:ext cx="233208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nctu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marks – periods, question marks, and exclamations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s – date, words in a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reviations and Ti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ation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a+kid" descr=""/>
          <p:cNvPicPr/>
          <p:nvPr/>
        </p:nvPicPr>
        <p:blipFill>
          <a:blip r:embed="rId1"/>
          <a:stretch/>
        </p:blipFill>
        <p:spPr>
          <a:xfrm>
            <a:off x="6095880" y="4267080"/>
            <a:ext cx="1565280" cy="1703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e the deer in the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 delicious pizza this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irthday is November 20 19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Smith moved to Wash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over there, said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kids3b" descr=""/>
          <p:cNvPicPr/>
          <p:nvPr/>
        </p:nvPicPr>
        <p:blipFill>
          <a:blip r:embed="rId1"/>
          <a:stretch/>
        </p:blipFill>
        <p:spPr>
          <a:xfrm>
            <a:off x="7162920" y="685800"/>
            <a:ext cx="1143000" cy="121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2" name="carbrak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e the deer in the distance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 delicious pizza this is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irthday is November 20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mith moved to Wash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over there,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id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studentprepared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1318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pitalization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ginning of sent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per 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it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write-icon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1063800" cy="811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gunshot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visited the Space Muse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ily smith goes to maple ridge s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d you carry the fla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day,Charl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book_belt" descr=""/>
          <p:cNvPicPr/>
          <p:nvPr/>
        </p:nvPicPr>
        <p:blipFill>
          <a:blip r:embed="rId1"/>
          <a:stretch/>
        </p:blipFill>
        <p:spPr>
          <a:xfrm>
            <a:off x="7010280" y="1752480"/>
            <a:ext cx="161136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 visited the Space Muse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y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th goes to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g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read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D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d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Y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u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C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rry the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F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a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T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ay,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C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arl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deskset" descr=""/>
          <p:cNvPicPr/>
          <p:nvPr/>
        </p:nvPicPr>
        <p:blipFill>
          <a:blip r:embed="rId1"/>
          <a:stretch/>
        </p:blipFill>
        <p:spPr>
          <a:xfrm>
            <a:off x="7315200" y="5181480"/>
            <a:ext cx="1325520" cy="1121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2" name="driveb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4:32:08Z</dcterms:created>
  <dc:creator>Jefferson County Schools </dc:creator>
  <dc:description/>
  <dc:language>en-US</dc:language>
  <cp:lastModifiedBy>Jefferson County Schools </cp:lastModifiedBy>
  <dcterms:modified xsi:type="dcterms:W3CDTF">2002-02-22T18:28:07Z</dcterms:modified>
  <cp:revision>9</cp:revision>
  <dc:subject/>
  <dc:title>Let’s Proofread</dc:title>
</cp:coreProperties>
</file>